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</p:sldMasterIdLst>
  <p:notesMasterIdLst>
    <p:notesMasterId r:id="rId54"/>
  </p:notesMasterIdLst>
  <p:sldIdLst>
    <p:sldId id="256" r:id="rId55"/>
    <p:sldId id="257" r:id="rId56"/>
    <p:sldId id="258" r:id="rId57"/>
    <p:sldId id="259" r:id="rId58"/>
    <p:sldId id="260" r:id="rId59"/>
    <p:sldId id="261" r:id="rId60"/>
    <p:sldId id="262" r:id="rId61"/>
    <p:sldId id="263" r:id="rId62"/>
    <p:sldId id="264" r:id="rId63"/>
    <p:sldId id="265" r:id="rId64"/>
    <p:sldId id="266" r:id="rId65"/>
    <p:sldId id="267" r:id="rId66"/>
    <p:sldId id="268" r:id="rId67"/>
    <p:sldId id="269" r:id="rId68"/>
    <p:sldId id="270" r:id="rId69"/>
    <p:sldId id="271" r:id="rId70"/>
    <p:sldId id="272" r:id="rId71"/>
    <p:sldId id="273" r:id="rId72"/>
    <p:sldId id="274" r:id="rId73"/>
    <p:sldId id="275" r:id="rId74"/>
    <p:sldId id="276" r:id="rId75"/>
    <p:sldId id="277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notesMaster" Target="notesMasters/notesMaster1.xml"/><Relationship Id="rId55" Type="http://schemas.openxmlformats.org/officeDocument/2006/relationships/slide" Target="slides/slide1.xml"/><Relationship Id="rId56" Type="http://schemas.openxmlformats.org/officeDocument/2006/relationships/slide" Target="slides/slide2.xml"/><Relationship Id="rId57" Type="http://schemas.openxmlformats.org/officeDocument/2006/relationships/slide" Target="slides/slide3.xml"/><Relationship Id="rId58" Type="http://schemas.openxmlformats.org/officeDocument/2006/relationships/slide" Target="slides/slide4.xml"/><Relationship Id="rId59" Type="http://schemas.openxmlformats.org/officeDocument/2006/relationships/slide" Target="slides/slide5.xml"/><Relationship Id="rId60" Type="http://schemas.openxmlformats.org/officeDocument/2006/relationships/slide" Target="slides/slide6.xml"/><Relationship Id="rId61" Type="http://schemas.openxmlformats.org/officeDocument/2006/relationships/slide" Target="slides/slide7.xml"/><Relationship Id="rId62" Type="http://schemas.openxmlformats.org/officeDocument/2006/relationships/slide" Target="slides/slide8.xml"/><Relationship Id="rId63" Type="http://schemas.openxmlformats.org/officeDocument/2006/relationships/slide" Target="slides/slide9.xml"/><Relationship Id="rId64" Type="http://schemas.openxmlformats.org/officeDocument/2006/relationships/slide" Target="slides/slide10.xml"/><Relationship Id="rId65" Type="http://schemas.openxmlformats.org/officeDocument/2006/relationships/slide" Target="slides/slide11.xml"/><Relationship Id="rId66" Type="http://schemas.openxmlformats.org/officeDocument/2006/relationships/slide" Target="slides/slide12.xml"/><Relationship Id="rId67" Type="http://schemas.openxmlformats.org/officeDocument/2006/relationships/slide" Target="slides/slide13.xml"/><Relationship Id="rId68" Type="http://schemas.openxmlformats.org/officeDocument/2006/relationships/slide" Target="slides/slide14.xml"/><Relationship Id="rId69" Type="http://schemas.openxmlformats.org/officeDocument/2006/relationships/slide" Target="slides/slide15.xml"/><Relationship Id="rId70" Type="http://schemas.openxmlformats.org/officeDocument/2006/relationships/slide" Target="slides/slide16.xml"/><Relationship Id="rId71" Type="http://schemas.openxmlformats.org/officeDocument/2006/relationships/slide" Target="slides/slide17.xml"/><Relationship Id="rId72" Type="http://schemas.openxmlformats.org/officeDocument/2006/relationships/slide" Target="slides/slide18.xml"/><Relationship Id="rId73" Type="http://schemas.openxmlformats.org/officeDocument/2006/relationships/slide" Target="slides/slide19.xml"/><Relationship Id="rId74" Type="http://schemas.openxmlformats.org/officeDocument/2006/relationships/slide" Target="slides/slide20.xml"/><Relationship Id="rId75" Type="http://schemas.openxmlformats.org/officeDocument/2006/relationships/slide" Target="slides/slide21.xml"/><Relationship Id="rId76" Type="http://schemas.openxmlformats.org/officeDocument/2006/relationships/slide" Target="slides/slide2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 type="dt" idx="15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9" name="PlaceHolder 5"/>
          <p:cNvSpPr>
            <a:spLocks noGrp="1"/>
          </p:cNvSpPr>
          <p:nvPr>
            <p:ph type="ftr" idx="15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0" name="PlaceHolder 6"/>
          <p:cNvSpPr>
            <a:spLocks noGrp="1"/>
          </p:cNvSpPr>
          <p:nvPr>
            <p:ph type="sldNum" idx="15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8331-43D9-45C0-95DE-43160E0F4CB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9EBE-5432-4345-AFEC-16FAB7CBFE8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46B0-7E2A-42BB-BD14-8055C1F824A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7607-C423-48A4-8532-E3F5F8294C4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2BFE-3A54-48FA-90DA-BE680F8E1DB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610C-507B-4AC9-B424-3AD28492A93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7E8B-3E75-41FF-922C-C56A4029C52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8E25-B718-449D-A8CD-4538922EDB4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4293-AF09-423C-944E-194783EA1FD6}" type="slidenum">
              <a:rPr b="0" lang="ru-RU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B88C-80C0-4E85-ACFE-B09A20747FB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2B85-A5AA-435F-B62E-A0837B01FBE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4E30-096B-4BE3-90FE-12BEA11B0FE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6CC9-8B98-41D2-BD3D-B5031640548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BB2D-687F-43DD-8B15-BF024C14FA9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FAF5-6DC1-4B5F-8CB0-FE6EF398830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94E8-89DF-4739-A339-027EAF78A7C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B395-50F7-4C61-8564-7E1FCA790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0F47-9E31-498C-9D4C-21C01895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46D08-3F49-463A-A150-CE4D2429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B8E85-3DD8-4CB8-B92A-84E8441C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0F4A5-475E-4A63-BA1E-D43A9D87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62A08-2DE7-4615-85F3-DFF3721D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2B051-7FE4-47CB-85C7-4A47ADFB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48B9A-26FD-4ACF-AA5E-F964D0C5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2F45E-684C-43B8-9A50-75E8AF10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7A8BF-BA61-4FA4-B120-AD2E186C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8F95F-F108-428D-BA28-8F56FF4D1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DD72A2-3399-47FE-8AE4-3D054B84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3FFC-B16A-4938-A6E7-B9B401A80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AEFB0-EC32-48CA-A361-0BE741BB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7ACBD-D5EB-4D2E-856B-1FC20E86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0F342-5327-4B2A-B26D-72CD6AAE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8E6A2-19A8-47C9-AFDF-FEC2E9CC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439A7-87B7-4E1B-BD9C-A014A25C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8EB77-3E93-4061-883D-E8F83DD3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C0A1A-AD79-4273-988C-BDDC47FE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F3930-1E06-4889-8121-3D3DD0B3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0A6F5-000A-45E9-9B26-183689A5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D2963-0040-4B2D-ABA5-870AD1E1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929E-CAD5-4F57-84AA-F457E893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6C0AE-4BDF-4AF3-A96D-5AC4F15F0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9A79B-2826-496A-8C53-C5D72ACDF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FF4AE-11B8-4868-9336-E80931FE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75DEC-A0B0-4E2C-A39B-79B1BEE5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8B5A8-61E6-4045-9450-AC346D41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ADF49-8AC4-4836-8DA8-B61A1A58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5878D-2F37-4329-8433-44381FBC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0EBED-9F57-44D0-92CB-ED394262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2EE62-AA9E-4FF3-AA48-9DF71863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41FE3-6D27-44A2-835A-2320E040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ECB8-E7D4-4BA1-83A2-68E6D852B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DEDDA-D4A6-424B-B53D-1CD64710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5D148-61C6-4605-AC81-D1F5AF884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22BD4-9AC8-4134-B771-54564433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B02E58-3C27-4BEE-A148-D31E0DC6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19E1F-2E91-4A57-BAD7-E8B4F11D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E55A93-317D-4724-B1F2-1D0EB034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578E1-8F3F-4743-B51C-77A1F008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85F46A-B260-45EB-A945-14A0188F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09A681-AFC6-47D2-BB34-8C118766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8DB4F-CC88-4D11-BE38-867B77CC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64F6-F047-422E-9ED1-F273FB93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659031-FFAE-4D6A-A827-738E3544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F3D4B-BA6D-4595-8624-982432ED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B85A7-9E51-48A9-AB7B-32FCDD03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C3A4B-F558-401A-8B45-B1E49227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23892A-6F37-436B-9DCE-D45DD9C5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AEEF1E-AE97-44D5-9287-BEB06342B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70A971-A5F6-4715-8367-AB8D7BBC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AE896B-8763-4244-A3F5-FDC49DF3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BFC14A-5E65-43C6-B19C-610CE99C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E51D8F-AA75-4284-AB5B-219EBD62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E08B-1FBC-4B7A-A419-804BCB85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BBE1ED-6078-45F9-B644-E87CF0F8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1A0190-A0C8-420E-9CE0-F73116F6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338A1E-4AAF-43B8-943D-5DA4ED8F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275B14-9D2C-4756-9B19-664C6952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2CF804-B152-4394-9EDF-3010BB10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3F1A89-FE62-4CA5-A7B1-807FF9B3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5B37B6-61B0-4CFF-97DE-F059A544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950214-1445-4CE3-9EBC-41B26BF80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B59A93-9B25-41A7-980F-145B06C7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121A15-71C4-497D-84FC-E3BE1209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AF06-5357-4DEB-80BC-9AACE76E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9002DF-3C9E-43F6-A676-4094E81C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57C8F9-0E73-4E98-8723-8859E8AF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D27FB5-099E-4C3C-8444-788ADB71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7D3FF8-5B40-4189-BA2A-6C9B1AF8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7FBF93-C443-4AFE-B1DB-5520B7A1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B31748-DAD2-4822-B32C-E0C0F256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F21592-8BA9-4D16-8D9A-5BE1C240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3D483F-DD39-4F62-84ED-287048B2D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6B96A6-6AF3-4D30-AE5E-9AD94E7B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4628EB-16E9-43A9-AACF-0EA39A0FA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57CA-4550-4EBC-BAE3-A31BA2F5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1E9309-FD9E-49D8-A537-D40EE26E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1A1326-F20A-42B8-91A5-ED6999D3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2B5355-928B-46A5-8C3A-2CDC9AE3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3E7CCD-ADA5-4B68-BB2C-D9B1217B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05D389-ECCB-4AA0-9F14-856F5787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380171-A961-4A9C-BBAA-384E5E13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6A9CA5-258C-41F8-B054-7FD36A16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8F5740-1838-46F6-9A57-E42E0C48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4B7A24-6589-4371-9388-7374BB1A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7E7586-AB69-4A13-B772-D3670FEB4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1F20-047C-418A-8456-DF97AC3F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03213A-BB00-4887-8F90-50AAAD0FD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62A98E-2336-4A2E-AC5A-EEB7C7FC3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ECAE93-445E-45FB-B2C5-8A4C3848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17408B-B2B3-4896-9C71-E8F646E3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488C35-0D06-4562-BC7B-88E3C70E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8921AF-03EA-4B36-8D7E-E9278248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2FED4A-0CB6-46BB-BCD5-00424E2E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07AF7E-13FC-4526-8326-03D14FFD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323C51-E179-43AD-94D6-8493BC7B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3D8FEF-5E65-44AC-BB7D-C5C52F7C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0CC3-9B8D-4069-8377-4C7F1B46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FB00F1-F3C4-4E87-A85C-FC834F10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5C6A31-A24B-448B-8E0F-2FF8EAE53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08C95D-92B5-4301-B52C-4F62992E8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53822D-056E-47A4-9FEE-C2085B58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3B383E-D0E1-4080-967D-314CB230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615D93-85F5-467C-AAB8-9A32B6E4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0EF3DD-131A-4D90-A5AE-06FDDD6E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C3F5C5-9024-46DF-95B0-CF7A132E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4D3C00-2D61-4EF1-AEE2-E849FDEA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767576-0F42-4EBA-B45B-84B50BE1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46D1-F9C0-4CFF-8D08-B5C621B1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A4F5-D795-4DD7-A630-1FF3FCD1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B7C646-C765-48E7-8835-25BE62DB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1EDAE1-12AD-4C46-89F1-EE86735E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6765DF-3CDC-4F50-A989-A2675D62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40CE53-AB6D-4E5E-B923-A3D4D191B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5E9FA0-9435-4411-82BF-FBA9E63C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C006C5-A007-481C-8F46-42B4C678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7B5D88-526F-4FF6-B062-AB101077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8EB1CF-80B4-4093-BB74-6EF81943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4F9A58-8C9C-436A-B381-172BD72A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90B4D2-D587-4159-AF5F-17A3CD77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C5DE-BF66-4FDA-B131-BC8C1EC9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537CE9-39C9-4A7B-BCDB-B57998F9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C90722-217B-4D2D-A7D8-04E439B2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21F3B3-5D86-49E0-B6A6-B087BB62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B10B84-485C-4CD3-ABAA-C9FBD967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91080E-6042-4E75-BB42-C60221B3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826C9C-FE44-4F73-99CE-AD9D9D901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843EE4-4137-4D26-B6EA-7AC336417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69D57F-0256-4CA6-AAB1-41D3528DA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A8C1D9-C8CE-4C23-BCEB-EA757D4C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6FC28E-1A4E-4029-BAB8-D79861FB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429C-50C9-4DA8-9E89-5D425DE8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1910BE-083D-488E-9E7E-1219EBDF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C2A13A-7570-4125-9DAB-4C79578E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3663C7-5522-41CA-9DBF-D978AC40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2585C9-DCF0-4776-8ACF-4D3594F4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45D052-4A43-4119-BF3E-68E7092D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D48FB9-E775-4349-871B-FD6349CD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E4CD87-71A3-43D0-9F0A-756875FB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502E01-E44C-497A-9C60-F1F977535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4857E3-FDB2-4848-8B2C-C34806ACB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B68AFD-406A-429A-B782-AF9328DD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2853-740F-4508-9D3F-BDB29C53B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8FF7D9-E51C-42B0-98EA-E8F01B16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AF2105-19B1-4221-84C2-03D22B36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F9694C-8319-4051-8D7D-144FFE23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E28E8C-F276-4410-BA2D-0B779AA3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7E0ECF-EC27-4793-823F-AE216E7A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299093-84D6-4FF9-BAA1-406FAF2B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F9A3F2-3D0D-4BF7-88EF-26310DD1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BAA6A9-7890-412C-8235-98412024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60C4FC-FA26-406E-B708-7BF4C279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C946F1-C9FC-4D67-A047-A1959E050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DC1C-26FD-4FD7-A659-A5053B9D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209546-EE66-4ED2-909B-38435C43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9B26E8-17F0-4454-87CB-A3B341308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56EF8C-95F5-4B96-A8C2-AD1C626C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BBCBF7-5BCD-4204-82EA-0C81C432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7DC2AE-7289-45BE-9870-4F31E3B7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841224-D5AA-4A0A-B1A5-26729932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230974-BAE7-491B-947D-B7216CCA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7EAD8F-5DF1-43DA-AA9E-2017920F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7083F4-161D-4B84-B1B0-2DB574D2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EF2B16-E7A5-479F-8319-35CB63CD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C8234-AA7C-4EFB-A5A3-0CD403F1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CDF338-FDFC-4711-8294-72385C4D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C849D4-DB89-4B39-883B-185F7E2C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10F055-3906-48E2-B97F-E9CD6C247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7F92F5-31BB-4802-8B2D-56E7FF91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39FA81-97B9-4D52-840A-BEF11009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CBFECD-35EC-4EAC-8253-1BD84292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E2E5EF-F65B-415F-971B-29A1A133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068215-ED83-40E8-9FA6-FE993049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066EAE-3C39-45D4-AAA4-8D13CB5D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AC0F09-41C8-4CF4-9B14-9EC43BD4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863EA-EB5B-4719-A8EC-3FF8D0F7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4E0C2C-625F-4C14-B0A4-7BC4E097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15D767-2EC3-4041-B5A6-FED3DF7C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E66CB2-DC70-42BB-A3ED-54FD3EDF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D66002-0901-4ADE-BF06-DE077831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83C2D0-9486-4D0F-9993-4111488A4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C71532-DCC6-45D2-8B46-B75787133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064236-99DE-4BA1-BD57-DB907D98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608152-34F0-4E5E-A858-362C2B08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3EB9A4-2406-4181-81CD-1343018A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31B6B2-2AE3-4E79-849A-FB7F53FC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73399-B575-4AAF-8012-6A042C5F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BAD5BB-5862-41A0-80D2-33461BAA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F9BCF1-1CB1-4175-9985-903BCFA7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2B4C6A-8D4E-4E07-A525-C3851369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BC7C5D-701E-4E66-902E-4357A6C5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40CD14-2E29-4123-AC9F-3F42CB93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382902-0BC4-4A53-83FE-F64086A0D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F785F9-F63D-47E6-A2F2-2AB81D8A0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3EA5EA-8173-402A-8EF6-FD39B7A2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4A1ED6-B033-44CB-99CC-5079818F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E1521D-41A1-422C-9924-3BA0A0B6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3A0A9-0C8D-43C3-B2CE-96BA211C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700EF9-F428-43C8-BA12-239AEDE9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5F6BB8-17DE-42B3-8900-2367592D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AAC8EB-A4B4-4E41-837F-DA568276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49DEA9-E822-4E8D-AAAA-A3633314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5FDE63-5E5A-4415-8C63-B68088AD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857F94-2D63-4328-9E99-C39F63D5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A1A026-D28F-44BE-A736-223A882E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1AF073-92EE-4CA4-BA70-975C8AFD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FA0141-A2F8-4F6E-90BC-C0A8DBD0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C276E6-B366-4E89-A96F-9977241E2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BC92C-075B-4791-ABBB-828F5D65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B7006F-3FAA-4DCD-95E9-A30343B7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108CA66-8DCE-479B-866F-5D5833FF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CB3EA8-46A2-4E26-B806-A539DFD4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5C6EB4-4717-4797-9869-0C27B350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C3A38B-C52F-4F27-B1F0-F17FB623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E85E5B-C441-4DB9-843E-3A5EE2E3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9B5D1C-B303-4297-A8F2-2F240315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619465-03F4-488E-BFEE-EC2FA0CD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AE1EC9-6B70-4C44-8FDB-ECC71F70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F0E793-2230-4484-87BB-733D34F5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81C5-C7F2-4427-B1C4-F6889DF7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E2587-0109-4623-8153-83C2D210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E0E9D0-AB57-4E21-897C-1CE1E5995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08D8E9F-4B04-4851-990A-C9742F6A2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C4D129-7F5F-4882-B7F1-42BA7093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E7DAC7-E9A6-40EC-AE20-08B1949D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068C94-F34F-4DBE-9E92-25317E8F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C4EA91-74C3-423C-BD55-398DECD0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E582F6D-AFCA-41A8-9A88-2534BE64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BE0915-4BEE-438E-8ED9-3A20D3DE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2F4492-A094-445E-AA1E-E9C4E201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AEA2AD-A82D-4E5C-8D8C-CBEB5A1E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C45E2-D30A-4089-9D12-59D6806E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AFA2D7-CA4E-44B5-B5AB-9B54A4B7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B5F4EC-8D01-4FF5-B001-D45E56A32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01331D-E3D3-4E4C-87A0-4E7DD8D51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925D4B-5975-4E57-8D85-F845F648A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639E282-3E90-46A3-AC56-0A04AE34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F24580-508F-43E8-81F4-7A4F1AE2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CFA3C9-7EE3-419B-8C92-344F6630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3C37CF-0C36-496C-996F-0B38DD13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5D95AB-4708-4408-B66D-E33901F7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760756-E72A-43DC-96B7-A66F65A1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4C37E-37DE-4321-A51B-D3164111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0114EC-26A1-4916-A2EE-25A3AA41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CFD722D-6848-4916-BF08-6CFC56EE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38F389-33CE-4C46-BBCF-10F8447A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C623E4-251C-48BD-965A-B4980BE05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CEB6F85-98C0-48B7-89C5-0D67B7F7C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DA5F7F9-C195-4AF3-852E-3258033C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29F4616-CB95-4B91-82F2-8C673A5A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94C2105-8568-41F4-85F2-60FDBB5D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9FD0BF4-32B0-42BF-811F-B11478B3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E3B17EE-504C-4C26-A078-49EB9345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C8BF6-694F-4274-A5B1-048D3492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3BB92FA-6C88-4BCB-B9C6-CD6890EA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13B95F-4486-4E57-AB20-5297CA42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CDEAF1-30EF-4FA7-86D0-14E3FC37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DF8051-AC8C-4E8F-837E-312F7EA2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9F00460-4A5C-4587-8410-84B7F45F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2C0A90-98AA-4229-B5DB-4A844E3F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C78594-BA3E-4A4B-9635-C38305E7C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1ADFB8B-EF0F-4A91-A780-B75B43A20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16D8BCB-F25B-4493-BE01-7B88C8AE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D500E41-A49E-4142-94BB-4B4C6A5A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7BAC4-8154-450C-8DD5-8CA78251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D3D6CBF-E2D4-432D-8D35-F509E02D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7894AF0-3CF7-426E-8C1B-223DBE8E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7ED92E5-7D27-45FF-8A3C-B909F7EC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8EE4CA6-06C8-4F5F-89F9-4EB90F78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0A9BCEE-DCA8-4A0D-A336-859AE5E6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3DF580A-CDA1-49B2-84E1-95BF2924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6A05EFC-1C1D-4C8B-8F00-B5C314DE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37D32CF-4C68-4D67-A967-933AC50F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B18680-5411-475A-8D3A-12764793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4737B4A-CBCF-490D-B9AC-DAEEC7C0D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E2820-6CF9-41E8-A0BE-5F3C4D565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791413-ADE3-4496-9C91-95A30881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62F10C8-F033-42A5-A03A-5E51858B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301F46B-AAFA-4921-A050-316C1017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9E75B76-B708-47FF-B395-1C521891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64062B8-38C9-4A97-9670-A8689E64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0664865-89F3-4093-ABDE-5AF773B7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AD4D1A9-2B20-4D42-A2EF-8A847B5B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079FF34-6F5A-4583-A03C-7D08139C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E422930-FDED-442D-9541-E054B96A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97FAD79-CB00-41D5-93F4-BF435CDC9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E9E36-A6C9-41BF-B51B-38D755799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2D8D66D-8869-42AD-A350-FE8AC39CA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62C82FD-40CB-4868-8390-00410ADB6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0919B82-39FA-4D0F-A38D-110CC31B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F512037-A64E-4F9E-BE49-DE768895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65A157-080B-4C22-A0F2-77B849D3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DA6CBB0-B334-490D-88E4-9DEFFDD5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B7782D1-5A61-43E4-983C-D9DC6850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2879EBA-3E40-4E59-8219-D99905B5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8498750-A333-47B7-AB22-C681F6D0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95B7A0C-2416-4E6B-ADC3-05417EB1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FFEBA-BF7F-4372-B979-F137BD863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24CBC01-8C78-40F5-B525-D3B1925A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D779377-F241-44E6-8D09-94B763A2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5FD7C38-CEA2-422E-AC3D-2D15370F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3C011A7-FF6C-4C7F-A605-4756F028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A23F79F-6426-4573-83C6-A4A30925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AE8FABC-2866-4E24-9A18-A2C057A6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7B35EB9-8912-46AC-A92C-0597E72B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4F217FB-F104-48EF-81D9-3EB3512E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46606B1-8D69-409C-AA45-BB079713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50B9979-4AC9-46D8-86E9-5F5B9E24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45644-05B4-412E-9E40-41EDD21D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93A9E06-C15D-4147-A1F0-524D8471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EBB2190-74CB-4206-B323-BB81D413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314AA14-778F-44F7-97DB-89A32CBB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EAA7C40-B8CC-4073-AA0E-DF270E8D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FCB5C95-DD26-485A-8F51-9AEF5070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D5E5994-010E-4088-B3ED-EF698ABBD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F2ABFD1-4557-4344-83CB-8C9A9F5F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B5A4E4B-77C8-4B97-B328-550EDA3E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D28FF20-447C-4503-82EB-6455A332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6E583FB-AB3B-453B-B174-FA84BF70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D10D3-23ED-4B7A-A34A-DE188109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055314F-B4E1-4DA6-A95B-8936BE5B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3A71015-D152-43D6-BE74-0AD633DC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0FEB1B9-2AD2-4BC2-945B-C39C9760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48E8F3B-F92B-4740-A770-9386C518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30BC206-67A0-4FD2-BC7F-11163B1D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8AD525A-01F1-4B7B-BEF4-7630632C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0986BD6-D7D7-4CAA-B186-D78FE36E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029E925-4BDA-49A9-B498-F3CFC3D1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6F5BCD4-A5FC-498E-99CE-BC92ABDE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CE42950-4A1F-4DFA-8BCC-E2BD93E5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BBB8-718A-45A8-87AB-C805E60D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264C0-A6EF-4F4F-BFC4-C94EF092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49F11DC-AE70-4A0A-BEF9-79B3D8E1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2939D20-1207-40AE-B37B-874A5C48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A4A3918-E1D7-4C44-930C-5979CCB2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534A576-FB82-49DE-9F81-91754D19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2AF6DA5-7B2A-4E8D-9716-28DF3307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AF23BF4-D414-4196-975C-1C9A5B45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129DC50-1A1C-4A67-A93D-4D401CB5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376E2AF-6E29-4397-B18A-81AEB8E9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374783C-C77F-472F-BF59-B05276CB8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AD85549-11E4-492F-AE51-E3643806B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61D7B-5866-4862-B1DD-9A86D21E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EA27D92-D04B-43BE-B0E1-308CBA25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D1E4CA3-B874-4771-8DB6-52302CB6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E031073-6181-4085-9BDD-81B335DA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42FA1EF-11F1-4EBE-8F87-A41359DE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3076E67-280A-47E2-BC05-B18FF719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DEC02DF-46C9-484E-8A16-D35F197A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1B38411-DE29-4F7C-9F69-728B3093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A8F18F3-FA81-4792-B477-FC893605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4E854EF-F1CC-4444-B3A4-705B7282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924EABA-2BE3-490A-825E-17CD23E0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5D7AC-1873-4A5D-8D01-05BFC826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B15AE68-FCCC-4793-8DCB-74D2E0844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949487E-FB8F-48BB-B86B-00775AA1A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AB92658-B9F9-4D74-ADC9-61CADE78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01FCECB-E0FD-4860-9FD8-CDE99FF2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B48C096-3F75-427A-A0F2-7A68AB25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4D875D3-040F-4CCF-9229-213A4112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0CC8ED7-E1BC-4A99-B0C3-1F916780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ED17653-7295-4534-9163-8B555BA5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2177088-4589-4C6E-B9CF-5A7D56EC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41A2A49-3EE8-4607-90A1-C4E2AB33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3C1B8-2CDB-427E-9690-9BD6CE2F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CF9C74C-1850-4959-92A0-B04AC6E6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77FBA6B-B13B-42A4-A5D1-5BF6D7A93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D3B7DB4-345C-4970-B05E-2A8A3FAB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1ACBE32-91FB-4E39-BD59-C46F671B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588B87D-4562-46C8-A3FD-A90F288B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0012FB7-56DE-4C1B-BAE7-856E09DC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684267E-8ADF-4F5D-807D-27D42C4F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B8F7808-11E4-4AEA-8984-462DCCBC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76266A8-E8F2-4E17-9C76-476CB9AB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01DE6D3-6E83-48A1-9F6E-340313FD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33EC3-A214-4559-87F8-89CE8C42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7275D2F-148B-4B98-8F25-0279A53A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6B89443-DFE1-46EF-9791-C96CD8CA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6A5E7AE-E0CF-42BB-932C-E0F55BE6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9FC6C66-81EE-40B3-8FE0-E4E8F2E3D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9895A04-198E-48A2-816E-167EFC9B2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45C54C6-8185-48DA-9DE6-EB1D10216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1A267EB-8ABD-4E32-86A2-6BFDAC8C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F5BFD7A-BAEE-43C5-AD85-3518DEC5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D922AD4-D9EC-4F4D-9E85-532CA0CA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23BF68F-31E1-4AB6-948B-328B0ABA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24BA1-5ECE-4EFA-8669-50B9CBAE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83FC9BB-1460-4A35-A929-55F444AE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1476D2B-1264-447F-9991-C4691B0A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F8A561E-5969-4FCE-8C5D-5CEC48D7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739853B-46E1-4585-87F6-E1E3CEDD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F6FC79F-C26C-4D2D-9BC1-4F687652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A02C886-6E57-4DF9-A111-ECAD14EC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C2D49ED-9EE0-4470-B909-DC6B1973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364BCA0-1019-4162-9FE0-F2518D36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246286E-9D34-44B5-8F04-E816E362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46A9697-FCBB-41C1-8DBF-D545725C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F1A5E-B803-467B-AA0D-51E3ED74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8AFC8E5-3496-49C6-AE5F-473B8827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3C777D5-44C9-4472-A21A-18A40436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6A5E228-4AB0-4B0A-B12E-DDE7A82A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87B4924-D17F-43BF-B284-51BADDDE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FCABF12-2507-43F1-AEDE-C320B33E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4785C08-12D7-4A1E-B111-C32DC682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59ECBF8-8702-460F-BD91-414C89F3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3EFEDBD-2C72-40DF-AE87-09E7C3E9B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007DD16-B3F9-45F9-AECA-FA1DFCE8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E848674-3F17-4663-B01E-0F198CDD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A48AC-1C22-4DF9-A224-6F638B3C5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2472BFB-D0D7-427D-ABA1-741AD24E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0E38D2A-A57F-4347-8329-7F9C5AF0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1D2BC65-D4CA-4DA7-B2AF-1D989F4A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88146B6-9AFE-4CA2-A517-61DEAE3F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CFFE4B2-9391-421D-81D7-F4B706E7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B618AC5-D00D-4E1E-B580-B98B3596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2876CCC-A07C-4463-9A80-02074C63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3B41ED6-A3C9-4B41-A9D3-44AA67AD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6DD9A39-480E-4D08-A6A3-FA15138B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4EF6CA7-9688-413E-89FA-DCEDE238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7AB79-07BD-4B5C-80B0-02D96DFF5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EEE12D9-63DA-4AA2-8C09-05F4AAC6E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AD1832D-4A69-4676-B3C7-B13C9F3B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2369E63-C158-4E40-9517-964CF5AE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C158CB5-61D9-4ECA-9494-4C33C5B6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58716C5-C7A3-46FE-AFEA-E12C847D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A20E826-7523-4734-8399-B03C2ADB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2B3CB5D-42F7-494E-BB1C-E39861CF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B2D3D13-426A-4555-8C60-BB996A46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1730D4A-8206-494A-8573-E5E3DD3A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5C1F96A-7EF2-448E-9DAD-3F1ADB64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5FF04-E331-4C7B-80FF-73E86DE7D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A2F2933-8059-491E-B623-DC3CD651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BAB2F23-DEB7-493E-AEDB-8D270127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1B0E808-CCA9-4A5E-8C7B-7A82FED7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11CF9C1-6BF1-4731-8D10-D7D2FA790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E2E07B3-D56D-49D0-BFDB-4C769AE9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F94AA8D-C691-4A32-B2F8-AABF3FE1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F6DA51D-9BDC-4739-BDA9-86CF13A0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E99838E-BBD6-4F2C-BF0C-3FCF186F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0A11EBE-B19A-49AE-AB8A-F178C70C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A227515-1D43-43D4-812D-30F319C3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62DB-39ED-4D68-A0E4-0670DA8C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9B315-679E-46F0-BFFA-EF14DC33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9B945ED-EB01-44D2-A07C-80165251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5E749FD-6072-4F03-B3F1-4E56FE88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D5C05B1-224B-4852-A76B-329EB053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B46908A-BD93-4D96-9ABF-1CA75F07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E92263D-01F6-4442-BCDA-916DE57D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7CD5B37-5893-471C-B2AC-72EC05A79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719EB51-391F-4EA8-A0EF-C28C394A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6BA0C5A-1D4E-4795-BD2D-526C00F1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7929DE6-0C54-45DE-806D-6296E4E9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0991230-4C9E-4DD0-AAF8-350E54C0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F244B-5B66-4528-BF48-DDF4A9A6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D365169-20AA-4A83-B642-FDE52AC9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C609976-B27A-4953-A0DD-09259F43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0221323-7E5C-4930-BB7A-D997E415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03BABF9-CB46-46E2-99B9-451C899F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B7A9BCC-D03A-4DF2-A684-FEA05063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C626966-858F-4CCE-8B31-F80E957F9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3C9E269-6399-4126-82CE-C7C82E6A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778FB46-E2DF-4284-917D-11CC4898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9C95A56-C228-4A08-BE66-DFF15D10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57DB427-8CCA-4B13-AF32-A4DBB76E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293CA-A488-47F6-8997-04675DE8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3B582F5-960B-4951-8E07-DD44FA11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13E39EA-BE94-45E1-82DC-130F131D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890A2BE-9FB9-41E5-A365-8D598C41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5BC9B22-C6F1-4389-9EC1-56B38169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8BA2B6F-36CE-4A31-9FA4-988E1384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A48928E-E367-41DD-B245-FA122D56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C515AD6-6B76-47A1-8B9E-B74B9A37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A955C32-2914-4E50-94BB-30D6CE16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BC9B097-701A-4A17-ACCB-2B8EE21E9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23314FD-505F-42E5-96A8-956882BC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71FF8-25C1-4F93-8407-295057D6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FEFAF9D-A187-4B66-906F-3310569B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94D3CF9-686C-47D7-947C-AE67A75E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F1424B5-3355-4151-97F4-453F20CD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A031E4D-8122-4E5B-BBDD-A3C52C58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2676D4F-E2D4-44A7-9EBD-AD225AF2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474BE8F-E8D7-48FF-8BE8-B8D1772A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B2BB10F-D991-4655-B4C4-D85B528D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9624921-E2E6-481F-B71D-BB0F7AAF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9AF8818-7199-4112-974D-E6D0DF04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4E0A541-2384-4766-95BA-F81417E76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CBCFD-9A4F-44B1-BFCD-7CEB9F34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BDB2AE5-306B-4850-8D15-ACB619130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FEB30AA-8510-49DB-9EE4-8011E24C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188D762-5FF1-44C6-8006-3ED4D35B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5E1A5A8-7488-4837-9A2F-3A73892D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56A9893-E1BB-44B9-97BF-FDA7A6EB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B01C28C-CA3B-4A0E-858E-68846546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B51A929-1FB0-47C8-B48A-8354E209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12964CF-90B3-4129-92FD-AE3D3707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8D7AF4B-76B0-4FF6-ADF8-B394A326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81820F6-FE9F-4B77-A657-4DB9EFDE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CB1E8-7926-4755-97FF-82B95848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6648BA4-9B27-429A-A58E-EA54DBCB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4C3F017-96BE-4270-8780-DAB414E06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F573CB3-688A-43E4-8DA3-C4313B768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781B0D7-49F9-454E-B4C8-1A76A9CF9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847BCD0-1C1A-4A90-99D1-3F3F1D25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F138FD4-C068-4F1D-AF10-CE362141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444A005-EA46-4889-82A3-897CAEA4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584DC86-D798-44FD-BBAA-B30A51CA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E69480E-02B1-4669-9914-AC374E26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66BB36C-0A64-4183-A851-EE7C7AAA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28303-4EF2-42A9-9DE8-5362C71A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9520FF7-03A5-44CA-80B3-EB2DA787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FCA18EC-67A1-4CA8-A498-7236E136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CAE8005-F5DB-4992-A4B0-EBFD25C3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8F69C01-6C3F-4BC2-92CD-7E7AF8F9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2290595-B78A-4327-8810-668104B8E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46A8CC2-A681-4B4D-8372-632FA4377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E80E43F-FBAD-4DFB-806D-7C7E9F16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E809B1A-F3A7-45F3-9E8B-D973B8C3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77F0C46-9453-4762-827C-3019CD21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0DF8402-F955-4F9D-B346-5D75F2A3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6C2DC-2705-47BE-AAF9-8A05F135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86F295F-5D45-4FD8-8F9B-2038AD19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AB5B0BE-E8FC-47FE-A912-D54C2E4F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4C5036F-45A1-4443-913A-DA2DBA53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C45CF3D-69A9-4345-9009-B334F834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2809E00-37CB-434E-B526-49F9A6AC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C9EF0F8-3763-4616-B9FE-4C53E3BC6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0F85D86-1F51-45DE-934C-5D3B67A0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3A2E02C-19E1-4D21-9AB7-A05F67D42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BC483D8-5623-4523-ABA1-11C29121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625F857-ABFC-4669-BAF5-2360F58B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E3FCC-99C0-4C02-8F0E-1BE14FDA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7B5E4E0-F99D-4A2F-86E1-60E9ED94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486BE7B-5AE3-4B4D-8122-14489EA9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C4123B8-CA80-46FE-88DB-5FE750DA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6B14578-DF19-484E-89B4-9DE213D8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66C68E3-34EA-4C8D-9623-BAC19B64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94DA223-C9D8-4851-9B90-2A4C5AD1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28C87CF-D6F5-4A6A-8417-E20C6F5C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ACECCBF-7438-4F87-9F97-5C4AC73FE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F7E11AD-EE82-42CB-8553-2BAEEEFE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A3B25C2-6208-488C-BB8F-216B6FC5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C8C22-CE7C-4753-A069-6596AAA8E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325A364-48F6-41AF-8142-2AE6904B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BEA4F17-1CE5-470C-BFC4-70BB2466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4B5F841-0F3D-4A45-BA57-51291057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81A91BB-5107-415E-A13C-4E7B9D87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8CA9FEA-7E5C-4D47-B2D1-03E00CC0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A598883-05A6-4E01-B5E5-21B23328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A128520-F6C7-41A8-9836-FA0DAF50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84A03B5-B61B-434B-814A-091FDDA8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0D2C435-B04B-4A71-9F02-75DD2AB6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8407DAA-B4D4-4718-879F-1C35F8A7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DC5C-D95F-4F1E-8E2E-BC8275DD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C022C-7F1E-4F8B-A671-D2C09B977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BCCF7BC-B433-426E-898B-9C6457BEE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B878158-B3B2-45A7-A0E4-4B8E6EF4B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E5EFDDA-15A5-4E34-B8F8-ABB510EE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54A3F3B-4A20-47D4-8669-F255BA63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8D1F28B-4961-4D49-9242-7A1FD10E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8FD4B0A-64E1-4688-BA38-6F1AD347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1296E60-B7B5-4FFB-97DA-B16094E9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FB1FAEE-B895-4A5A-A986-71281E7D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C8C9B47-1870-41AC-A6EE-F53E5A93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83DC7CE-B852-4BD1-B161-80E18814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FDA5F-719E-45F8-971C-F9E57DC73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D947EBC-3455-4D6D-989F-8E80B8E1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B0BFEE7-4019-46B9-B027-899BBC2D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7BD311C-120D-40FB-B643-614906C69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F2996DA-0B3A-41E1-8BC5-7C60F4BB3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2BD9223-38C8-4EA8-84B0-42D4C6B3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BFA039C-4551-46B7-87CE-EFAC1AE3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245098E-3F3A-4464-8DA8-B57EF465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BCA7835-C914-4A9A-86C7-BD2C568B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92D80BB-5FFB-4AEB-9836-9288A2CF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B9F1121-D475-4DBC-8704-7AF36588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35AE6-47FB-4B92-BEF6-57FC1151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A50E096-C0FD-4F3F-9AB3-49CBD5B6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5419756-2B89-47A8-B231-DAB77E8F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840E86E-F5CA-49F9-8E19-5384D020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A9FE48F-6EC9-4AA5-A5EE-650A16C2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CB9C8BD-A789-4F78-BC9A-2F46A775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91852-8347-4BB8-B6BE-5DEE0BE8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FC49F-1204-4F0B-B697-98A0463E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94BE2-4CB0-40BF-BF08-B5C7AFDC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B1D02-FC28-42B0-8389-37D6CFF1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AE250-5265-4E03-BE64-3E5F2E60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FC208-EE94-4194-A973-7BF4C2F1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E6011-5372-4230-BF02-BC851D17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967F-C080-4B39-B4FD-C2308455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18E8D-2A66-48BC-9A08-6B3ED078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BC16C-4CE4-40C9-996B-3A955C3E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E09F6-5E60-43A0-8D14-B4DC51CEC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7325D-E779-411F-8D42-B699879D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CA0B6-65E2-429A-83CD-24BDB2A7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92FC6-2BAE-4AF4-8C13-BC942326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9EE57-9F59-4455-820D-1F5C02DF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A52B8-0E78-4EBC-B8F7-E0150E9C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1C05E-1568-4653-9AFE-557D23B0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58F39-9D19-44AC-89F2-13112810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3B1C-CC2E-4514-B6CB-6F115E83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BE525-10C7-4F3B-BDCB-6F8F18C9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2E8AD-BE81-4C2C-B9FC-F9401CB8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0DA3E-CD56-41DE-9200-ACA29A5C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EBDB9-DDAC-49D2-B8BB-574E879FF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DC832-CE5E-4641-90B4-EB629126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5EC4F-4EFB-4BF7-806A-2F5CBB2BA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D9F87-C21D-4AB3-AAB4-360FD54C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6663A-8F14-4F4F-AB48-791865CE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5C786-2EC9-44A3-B727-F0FD35EC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39991-79D6-425D-A7D9-0BBF3069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C4F1-3FD9-4344-B179-FD5938E0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CD223-1FF4-41DD-8DC5-03A908E9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AE767-EF9B-42FD-B5D3-D7C696BA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4A468-CCA1-4589-BCFD-AB7B398C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6E19C-16E0-411D-BA8E-246679D3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6FFF5-47D3-47A0-B1CC-6CD645E3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FD76D-65EF-42CD-979A-E9F0F9A75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72870-2483-41A0-99E7-A7418026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0276A-CABF-4C0B-94D2-FE0BFBAB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1D9E9-A0C8-4FA9-B25A-414CF5A0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C24A4-55EE-441C-8111-55752B6A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C620-314B-4A3D-8830-2868140D4148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81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4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85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6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7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8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9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1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2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4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5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7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8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9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0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1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2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3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7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9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510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1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2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3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4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5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6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5DCD-6B2C-48BE-BA77-D452BFA4470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DE8E-4448-4D68-B76B-45775DAA096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27F7-617F-45C9-BBE2-92AC3AB3D99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E6C4-52F5-4CF6-98F1-C0755FBAAD4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68CF-1B04-475A-AC9F-20DB02CBDF5D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7D60-56CA-4BBC-A5B9-77EB64F3B05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2711-00F8-4FB8-B04A-7626450D1AC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2586-7641-4074-9333-4CE21894AF8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C870-D92E-41CB-8D67-AA0C9EDAF6C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B97D-E8AC-46F8-A673-657ABB53EA0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0CBF-A0CD-4B02-B40B-EFA1BAAB3381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28E6-7D9F-4227-9EF7-EDA448E09CA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D8DF-0A1B-4952-A7D5-7648D7D6726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33BA-D8A8-48E7-940D-7EE2D8DD958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E7C8-BD00-4BAF-BF88-6D00EFA834A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0F82-F3AB-45FC-97E4-1E8EEAAE3FCA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2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133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4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5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36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137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8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9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0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1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2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3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4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5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6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7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8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9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50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1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2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3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4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5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6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7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8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9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0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61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162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3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4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5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6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67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8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 type="dt" idx="7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DA79-6EA6-4CE1-944C-9F1626D185B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 type="dt" idx="7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2702-21D5-4A3B-9347-D2CAFE60AE4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 type="dt" idx="7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BB46-D87A-494B-A813-13B7FE4D717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 type="dt" idx="8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B462-61B5-4087-8CAF-47017845CC5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 type="dt" idx="8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E241-C1DC-4763-A4ED-E96688E4E0F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707A-6F85-41F0-821F-A0D1A8AC4D6D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 type="dt" idx="8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8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9049-6EB2-40E0-AA3C-D611B2E3AD1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 type="dt" idx="9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0D9D-2706-45AE-8FAE-6D14E8AA9D0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 type="dt" idx="9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A2A1-B18E-484F-9BAA-562235FAB11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 type="dt" idx="9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AA13-3609-4FC1-B525-C69F2106952F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 type="dt" idx="10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2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5647-7519-461D-A56A-562DE643658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 type="dt" idx="10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B12B-3866-4178-9EE6-40DB9CCE4432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 type="dt" idx="10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FB09-EAEF-49A3-9887-47D89B2DB42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 type="dt" idx="10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5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BD20-A10C-4FA3-B4EB-E8A013FCF40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 type="dt" idx="11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6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E01E-6920-481C-A06C-D5C3B772ECC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3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744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5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6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47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748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49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50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51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52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53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54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55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56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57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58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59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0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61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2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3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4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5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6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7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8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9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0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1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72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773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4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5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6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7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78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9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 type="dt" idx="11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4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143F-0489-4E2F-B7D8-87D0B62908D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2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2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5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F8DC-BF1B-4361-AC80-14C0407D707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 type="dt" idx="11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 type="ftr" idx="1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5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4ABF-4633-41D7-A03C-C78C0E5EDF6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 type="dt" idx="12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6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7C4B-BEF9-44CB-99F0-509874D0309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 type="dt" idx="12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AE13-92F8-43F1-9295-EB3133D0F93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 type="dt" idx="12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 type="ftr" idx="1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8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BE09-7B34-48E1-B37F-B31144DA989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 type="dt" idx="13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 type="ftr" idx="1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9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005C-7704-4120-B160-707B84093F5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 type="dt" idx="13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0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C7E8-8151-469B-BE9F-B033829B263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 type="dt" idx="13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 type="ftr" idx="1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1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6C0B-5703-4DB5-BC3B-C621A531333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 type="dt" idx="13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2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B451-78F1-42CC-A865-CE7BC36EAB8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 type="dt" idx="14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3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256A-02F9-47AD-84B7-BA1FDC821B0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 type="dt" idx="14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 type="ftr" idx="1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4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5551-6F76-44CF-AD38-6D4801C3BF0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891E-B1B7-40B2-8C9B-A94519FAE0B8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 type="dt" idx="14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 type="ftr" idx="1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5" name="PlaceHolder 5"/>
          <p:cNvSpPr>
            <a:spLocks noGrp="1"/>
          </p:cNvSpPr>
          <p:nvPr>
            <p:ph type="sldNum" idx="15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BF66-D256-4494-B13E-24789C666D8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dt" idx="15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 type="ftr" idx="1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6" name="PlaceHolder 5"/>
          <p:cNvSpPr>
            <a:spLocks noGrp="1"/>
          </p:cNvSpPr>
          <p:nvPr>
            <p:ph type="sldNum" idx="15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CE1B-734A-43C2-A427-E3CC3EB63F16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 type="dt" idx="15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7" name="PlaceHolder 5"/>
          <p:cNvSpPr>
            <a:spLocks noGrp="1"/>
          </p:cNvSpPr>
          <p:nvPr>
            <p:ph type="sldNum" idx="15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65E3-8C6D-4C04-8E51-CD2E4FE74CF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7AF9-9F84-4CD2-89F9-F4295E2CD426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8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8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8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0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1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1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1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2D73-608F-4F97-9DDA-43B3BE64A63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6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6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6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dd"/>
                  </a:gs>
                  <a:gs pos="100000">
                    <a:srgbClr val="aaaa9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7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98977a"/>
                </a:gs>
                <a:gs pos="100000">
                  <a:srgbClr val="5c5c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dd"/>
                </a:gs>
                <a:gs pos="100000">
                  <a:srgbClr val="f0f0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ffff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9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9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9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ffff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9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9897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0FD4-9B19-4526-BE09-C1808C7E151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201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0d06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c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A47A-EAE3-4350-BF19-01D2C4DDFA2E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2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6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subTitle"/>
          </p:nvPr>
        </p:nvSpPr>
        <p:spPr>
          <a:xfrm>
            <a:off x="394920" y="1123920"/>
            <a:ext cx="80089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3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ПРОВЕРКА КОНТРАГЕНТОВ В РОССИИ СВОИМИ СИЛАМИ</a:t>
            </a:r>
            <a:r>
              <a:rPr b="1" lang="ru-RU" sz="3800" spc="-1" strike="noStrike">
                <a:solidFill>
                  <a:srgbClr val="ff0000"/>
                </a:solidFill>
                <a:latin typeface="Century Gothic"/>
              </a:rPr>
              <a:t>: основные дистанционные возможности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Rectangle 7"/>
          <p:cNvSpPr/>
          <p:nvPr/>
        </p:nvSpPr>
        <p:spPr>
          <a:xfrm>
            <a:off x="468360" y="5734080"/>
            <a:ext cx="352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3" name="Rectangle 9"/>
          <p:cNvSpPr/>
          <p:nvPr/>
        </p:nvSpPr>
        <p:spPr>
          <a:xfrm>
            <a:off x="5651640" y="5734080"/>
            <a:ext cx="302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4" name="Rectangle 11"/>
          <p:cNvSpPr/>
          <p:nvPr/>
        </p:nvSpPr>
        <p:spPr>
          <a:xfrm>
            <a:off x="20520" y="4154400"/>
            <a:ext cx="9144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Дмитрий Жданухин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резидент Ассоциации корпоративного коллекторст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Генеральный директор Центра развития коллекторства, к.ю.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рактический семинар-вебинар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28 февраля 2017, Москва, Посольство Республики Беларусь в РФ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5" name="Rectangle 45"/>
          <p:cNvSpPr/>
          <p:nvPr/>
        </p:nvSpPr>
        <p:spPr>
          <a:xfrm>
            <a:off x="395280" y="260280"/>
            <a:ext cx="2808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Центр развит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коллекторс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6" name="Line 8"/>
          <p:cNvSpPr/>
          <p:nvPr/>
        </p:nvSpPr>
        <p:spPr>
          <a:xfrm>
            <a:off x="2571840" y="64296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7" name="Прямоугольник 14"/>
          <p:cNvSpPr/>
          <p:nvPr/>
        </p:nvSpPr>
        <p:spPr>
          <a:xfrm>
            <a:off x="5320440" y="6145200"/>
            <a:ext cx="36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www.corpcollection.r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8" name="Line 8"/>
          <p:cNvSpPr/>
          <p:nvPr/>
        </p:nvSpPr>
        <p:spPr>
          <a:xfrm>
            <a:off x="395280" y="6453360"/>
            <a:ext cx="4903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735120" y="708120"/>
            <a:ext cx="7705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Упускаемые индикаторы при проверк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/>
          </p:nvPr>
        </p:nvSpPr>
        <p:spPr>
          <a:xfrm>
            <a:off x="425520" y="1787040"/>
            <a:ext cx="832320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)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едавнее создание организации и отсутствие следов положительной деятельности в данном направлении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либо отсутствие адекватных оборотов в последние годы перед заключение контракт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2)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егативные отзывы работников и контрагентов в сети интернет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по проверяемой организации и другим, связанным с теми же лицам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3)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личие дублирующих организаций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по проверяемой организации и другим, связанным с теми же лицам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4)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ыт противодействия кредиторам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с помощью основных упоминаемых схем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5)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ценка перспектив взыска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наличие активов для судебного взыскания и ключевых точек для внесудебног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Rectangle 3"/>
          <p:cNvSpPr/>
          <p:nvPr/>
        </p:nvSpPr>
        <p:spPr>
          <a:xfrm>
            <a:off x="395280" y="26028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Центр развити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коллектор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1" name="Line 4"/>
          <p:cNvSpPr/>
          <p:nvPr/>
        </p:nvSpPr>
        <p:spPr>
          <a:xfrm>
            <a:off x="1979640" y="549360"/>
            <a:ext cx="6769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800"/>
                                        <p:tgtEl>
                                          <p:spTgt spid="2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2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2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2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4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Rectangle 9"/>
          <p:cNvSpPr/>
          <p:nvPr/>
        </p:nvSpPr>
        <p:spPr>
          <a:xfrm>
            <a:off x="395280" y="26028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Центр развити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коллектор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3" name="Line 10"/>
          <p:cNvSpPr/>
          <p:nvPr/>
        </p:nvSpPr>
        <p:spPr>
          <a:xfrm>
            <a:off x="1979640" y="54936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755280" y="836640"/>
            <a:ext cx="7705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Ключевые точки для взыскания долгов организаций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5003640" y="1628280"/>
            <a:ext cx="3672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4240" indent="177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редители, участник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связанные с политикой или другими крупными бизнесами,  иной деятельностью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84240" indent="177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нтрагенты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особенно крупные и зарубежные), а том числе,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потенциальны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84240" indent="177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Потенциальными покупатели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параллельных бизнесов/актив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6" name="Picture 4" descr="http://lh4.ggpht.com/davidssb/R18A1OwwNYI/AAAAAAAAARw/8ToifBeRyyY/geoingenieria.jpg"/>
          <p:cNvPicPr/>
          <p:nvPr/>
        </p:nvPicPr>
        <p:blipFill>
          <a:blip r:embed="rId1"/>
          <a:stretch/>
        </p:blipFill>
        <p:spPr>
          <a:xfrm>
            <a:off x="1042920" y="1700280"/>
            <a:ext cx="4051440" cy="2808360"/>
          </a:xfrm>
          <a:prstGeom prst="rect">
            <a:avLst/>
          </a:prstGeom>
          <a:ln w="0">
            <a:noFill/>
          </a:ln>
        </p:spPr>
      </p:pic>
      <p:sp>
        <p:nvSpPr>
          <p:cNvPr id="2417" name="Rectangle 23"/>
          <p:cNvSpPr/>
          <p:nvPr/>
        </p:nvSpPr>
        <p:spPr>
          <a:xfrm>
            <a:off x="898560" y="4724280"/>
            <a:ext cx="7632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4240" indent="177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ъединения предпринимателей,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уда входит организация-должник или связанные с ней организации, параллельные бизнесы, общественные организации 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+ оргкомитеты конференций/выставок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4240" indent="177840">
              <a:lnSpc>
                <a:spcPct val="80000"/>
              </a:lnSpc>
              <a:spcBef>
                <a:spcPts val="201"/>
              </a:spcBef>
              <a:buClr>
                <a:srgbClr val="0000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84240" indent="177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нтролирующие органы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! важна правильная аргументация и системное воздействие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2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2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2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2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Rectangle 2051"/>
          <p:cNvSpPr/>
          <p:nvPr/>
        </p:nvSpPr>
        <p:spPr>
          <a:xfrm>
            <a:off x="395280" y="981000"/>
            <a:ext cx="78487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одготовка и проведение взыск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Rectangle 2048"/>
          <p:cNvSpPr/>
          <p:nvPr/>
        </p:nvSpPr>
        <p:spPr>
          <a:xfrm>
            <a:off x="395280" y="26028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Центр развити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коллектор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0" name="Line 2049"/>
          <p:cNvSpPr/>
          <p:nvPr/>
        </p:nvSpPr>
        <p:spPr>
          <a:xfrm>
            <a:off x="1979640" y="54936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1" name="Rectangle 2064"/>
          <p:cNvSpPr/>
          <p:nvPr/>
        </p:nvSpPr>
        <p:spPr>
          <a:xfrm>
            <a:off x="635040" y="1706400"/>
            <a:ext cx="5184720" cy="29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Корпоративное коллекторство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– это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еакция на неэффективность юридического, коррупционного и переговорного подходов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Термин предложен в конце 2006, в 2016 консультации по использованию в ФССП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2700360" y="691920"/>
            <a:ext cx="62388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Умелым в нападении мы назовем того, чей противник не знает, что ему защищать…»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унь Цзы «Искусство войны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3" name="Rectangle 2064"/>
          <p:cNvSpPr/>
          <p:nvPr/>
        </p:nvSpPr>
        <p:spPr>
          <a:xfrm>
            <a:off x="635040" y="4626000"/>
            <a:ext cx="8183520" cy="19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Корпоративное коллекторство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– это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449280">
              <a:spcBef>
                <a:spcPts val="550"/>
              </a:spcBef>
              <a:buClr>
                <a:srgbClr val="0000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ежде всего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Verdana"/>
              </a:rPr>
              <a:t>, внесудебное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зыскание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Verdana"/>
              </a:rPr>
              <a:t>проблемных долгов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рганизаци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449280">
              <a:spcBef>
                <a:spcPts val="550"/>
              </a:spcBef>
              <a:buClr>
                <a:srgbClr val="0000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асширенная претензионная переписка по долгам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449280">
              <a:spcBef>
                <a:spcPts val="550"/>
              </a:spcBef>
              <a:buClr>
                <a:srgbClr val="0000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«законный шантаж»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4" name="Picture 2" descr="http://games.compulenta.ru/upload/iblock/811/sun_160.jpg"/>
          <p:cNvPicPr/>
          <p:nvPr/>
        </p:nvPicPr>
        <p:blipFill>
          <a:blip r:embed="rId1"/>
          <a:stretch/>
        </p:blipFill>
        <p:spPr>
          <a:xfrm>
            <a:off x="5867280" y="2205000"/>
            <a:ext cx="28036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25" name="Прямая со стрелкой 20"/>
          <p:cNvCxnSpPr/>
          <p:nvPr/>
        </p:nvCxnSpPr>
        <p:spPr>
          <a:xfrm flipV="1">
            <a:off x="2773440" y="2204280"/>
            <a:ext cx="4115520" cy="1261080"/>
          </a:xfrm>
          <a:prstGeom prst="straightConnector1">
            <a:avLst/>
          </a:prstGeom>
          <a:ln w="88920">
            <a:solidFill>
              <a:srgbClr val="92d050"/>
            </a:solidFill>
            <a:prstDash val="sysDash"/>
            <a:miter/>
            <a:tailEnd len="med" type="arrow" w="med"/>
          </a:ln>
        </p:spPr>
      </p:cxnSp>
      <p:sp>
        <p:nvSpPr>
          <p:cNvPr id="2426" name="Oval 43"/>
          <p:cNvSpPr/>
          <p:nvPr/>
        </p:nvSpPr>
        <p:spPr>
          <a:xfrm>
            <a:off x="7236000" y="1413000"/>
            <a:ext cx="1368360" cy="1295280"/>
          </a:xfrm>
          <a:prstGeom prst="ellipse">
            <a:avLst/>
          </a:prstGeom>
          <a:noFill/>
          <a:ln w="316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7" name="Rectangle 32"/>
          <p:cNvSpPr/>
          <p:nvPr/>
        </p:nvSpPr>
        <p:spPr>
          <a:xfrm>
            <a:off x="250920" y="692280"/>
            <a:ext cx="8229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ример типичного кризисного взыскани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путационная угроза за «брошенную» часть холдинг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8" name="Line 36"/>
          <p:cNvSpPr/>
          <p:nvPr/>
        </p:nvSpPr>
        <p:spPr>
          <a:xfrm flipH="1">
            <a:off x="4858920" y="4076640"/>
            <a:ext cx="1800360" cy="1297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9" name="Line 38"/>
          <p:cNvSpPr/>
          <p:nvPr/>
        </p:nvSpPr>
        <p:spPr>
          <a:xfrm flipH="1">
            <a:off x="4716360" y="429264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0" name="Oval 43"/>
          <p:cNvSpPr/>
          <p:nvPr/>
        </p:nvSpPr>
        <p:spPr>
          <a:xfrm>
            <a:off x="6659640" y="3141720"/>
            <a:ext cx="1368360" cy="129528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рганизац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должн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1" name="Oval 45"/>
          <p:cNvSpPr/>
          <p:nvPr/>
        </p:nvSpPr>
        <p:spPr>
          <a:xfrm>
            <a:off x="395280" y="1916280"/>
            <a:ext cx="1368360" cy="129528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редито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32" name="Группа 15"/>
          <p:cNvGrpSpPr/>
          <p:nvPr/>
        </p:nvGrpSpPr>
        <p:grpSpPr>
          <a:xfrm>
            <a:off x="4140360" y="4869000"/>
            <a:ext cx="576000" cy="1368360"/>
            <a:chOff x="4140360" y="4869000"/>
            <a:chExt cx="576000" cy="1368360"/>
          </a:xfrm>
        </p:grpSpPr>
        <p:sp>
          <p:nvSpPr>
            <p:cNvPr id="2433" name="AutoShape 47"/>
            <p:cNvSpPr/>
            <p:nvPr/>
          </p:nvSpPr>
          <p:spPr>
            <a:xfrm>
              <a:off x="4140360" y="5445360"/>
              <a:ext cx="576000" cy="792000"/>
            </a:xfrm>
            <a:prstGeom prst="flowChartMer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Учредитель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4" name="Oval 48"/>
            <p:cNvSpPr/>
            <p:nvPr/>
          </p:nvSpPr>
          <p:spPr>
            <a:xfrm>
              <a:off x="4140360" y="4869000"/>
              <a:ext cx="57600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35" name="Line 49"/>
          <p:cNvSpPr/>
          <p:nvPr/>
        </p:nvSpPr>
        <p:spPr>
          <a:xfrm>
            <a:off x="4608360" y="5084640"/>
            <a:ext cx="61128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6" name="Oval 43"/>
          <p:cNvSpPr/>
          <p:nvPr/>
        </p:nvSpPr>
        <p:spPr>
          <a:xfrm>
            <a:off x="4211640" y="2852640"/>
            <a:ext cx="1584360" cy="143820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мпания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7" name="Oval 43"/>
          <p:cNvSpPr/>
          <p:nvPr/>
        </p:nvSpPr>
        <p:spPr>
          <a:xfrm>
            <a:off x="1908000" y="2320920"/>
            <a:ext cx="4680000" cy="453708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Холдин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8" name="Oval 43"/>
          <p:cNvSpPr/>
          <p:nvPr/>
        </p:nvSpPr>
        <p:spPr>
          <a:xfrm>
            <a:off x="1979640" y="3933720"/>
            <a:ext cx="1512720" cy="143856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мпания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9" name="Rectangle 2048"/>
          <p:cNvSpPr/>
          <p:nvPr/>
        </p:nvSpPr>
        <p:spPr>
          <a:xfrm>
            <a:off x="395280" y="26028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Центр развити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коллектор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0" name="Line 2049"/>
          <p:cNvSpPr/>
          <p:nvPr/>
        </p:nvSpPr>
        <p:spPr>
          <a:xfrm>
            <a:off x="1979640" y="54936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1" name="Oval 43"/>
          <p:cNvSpPr/>
          <p:nvPr/>
        </p:nvSpPr>
        <p:spPr>
          <a:xfrm>
            <a:off x="7093080" y="1628640"/>
            <a:ext cx="1368360" cy="1295640"/>
          </a:xfrm>
          <a:prstGeom prst="ellipse">
            <a:avLst/>
          </a:prstGeom>
          <a:noFill/>
          <a:ln w="316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Потенциальны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покупатель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Контрагенты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Объедин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2" name="Line 38"/>
          <p:cNvSpPr/>
          <p:nvPr/>
        </p:nvSpPr>
        <p:spPr>
          <a:xfrm>
            <a:off x="3419640" y="501336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3" name="Line 38"/>
          <p:cNvSpPr/>
          <p:nvPr/>
        </p:nvSpPr>
        <p:spPr>
          <a:xfrm flipH="1">
            <a:off x="6227640" y="2565360"/>
            <a:ext cx="936720" cy="79236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44" name="Прямая со стрелкой 21"/>
          <p:cNvCxnSpPr/>
          <p:nvPr/>
        </p:nvCxnSpPr>
        <p:spPr>
          <a:xfrm>
            <a:off x="1787040" y="2720520"/>
            <a:ext cx="2166120" cy="1716840"/>
          </a:xfrm>
          <a:prstGeom prst="straightConnector1">
            <a:avLst/>
          </a:prstGeom>
          <a:ln w="8892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519120" y="10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Взыскание особо сложных долгов через информационное (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PR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) сопровождение от ФССП Р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6" name="Rectangle 17"/>
          <p:cNvSpPr/>
          <p:nvPr/>
        </p:nvSpPr>
        <p:spPr>
          <a:xfrm>
            <a:off x="4371840" y="2205000"/>
            <a:ext cx="437688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4240" indent="32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Уведомление от пресс-службы УФССП о возможном интересе С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4240" indent="3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адресат не только сам должник, но и стоящие за ним лица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4240" indent="3240">
              <a:lnSpc>
                <a:spcPct val="90000"/>
              </a:lnSpc>
              <a:spcBef>
                <a:spcPts val="125"/>
              </a:spcBef>
              <a:buClr>
                <a:srgbClr val="0000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 marL="84240" indent="32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Совместная со взыскателем работа со СМИ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взыскатель может проекты текстов направлять оппонентам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7" name="Rectangle 18"/>
          <p:cNvSpPr/>
          <p:nvPr/>
        </p:nvSpPr>
        <p:spPr>
          <a:xfrm>
            <a:off x="395280" y="26028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Центр развити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коллектор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8" name="Line 19"/>
          <p:cNvSpPr/>
          <p:nvPr/>
        </p:nvSpPr>
        <p:spPr>
          <a:xfrm>
            <a:off x="1979640" y="54936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9" name="Picture 2" descr="http://radio.tomsk.ru/files/7000_1.jpg"/>
          <p:cNvPicPr/>
          <p:nvPr/>
        </p:nvPicPr>
        <p:blipFill>
          <a:blip r:embed="rId1"/>
          <a:stretch/>
        </p:blipFill>
        <p:spPr>
          <a:xfrm>
            <a:off x="360360" y="2708280"/>
            <a:ext cx="3645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Rectangle 2048"/>
          <p:cNvSpPr/>
          <p:nvPr/>
        </p:nvSpPr>
        <p:spPr>
          <a:xfrm>
            <a:off x="395280" y="26028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Центр развити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коллектор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1" name="Line 2049"/>
          <p:cNvSpPr/>
          <p:nvPr/>
        </p:nvSpPr>
        <p:spPr>
          <a:xfrm>
            <a:off x="1979640" y="54936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2" name="Rectangle 2051"/>
          <p:cNvSpPr/>
          <p:nvPr/>
        </p:nvSpPr>
        <p:spPr>
          <a:xfrm>
            <a:off x="324000" y="981000"/>
            <a:ext cx="3960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Некоторые новые возможности взыскания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99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- ст. 173.1 УК РФ «Незаконное создание организации» при «сливе» на «номинала»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3" name="Rectangle 2064"/>
          <p:cNvSpPr/>
          <p:nvPr/>
        </p:nvSpPr>
        <p:spPr>
          <a:xfrm>
            <a:off x="324000" y="3860640"/>
            <a:ext cx="8820000" cy="24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- поиск и/или имитация перспективного для оппонентов контрагента + угроза его «ухода»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банкротство физ лица – поручителя и т.д.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- контекстная реклама с «продажей» долг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449280">
              <a:spcBef>
                <a:spcPts val="201"/>
              </a:spcBef>
              <a:buClr>
                <a:srgbClr val="ee2010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Важно понимать, что демонстрация важнее реализации угроз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4" name="Picture 12" descr="http://img-fotki.yandex.ru/get/5605/angelina-veresk.3b/0_61ff4_883830c_L"/>
          <p:cNvPicPr/>
          <p:nvPr/>
        </p:nvPicPr>
        <p:blipFill>
          <a:blip r:embed="rId1"/>
          <a:stretch/>
        </p:blipFill>
        <p:spPr>
          <a:xfrm>
            <a:off x="4235400" y="1197000"/>
            <a:ext cx="49086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55" name="Прямая со стрелкой 20"/>
          <p:cNvCxnSpPr>
            <a:endCxn id="2456" idx="3"/>
          </p:cNvCxnSpPr>
          <p:nvPr/>
        </p:nvCxnSpPr>
        <p:spPr>
          <a:xfrm flipV="1">
            <a:off x="3778200" y="2953440"/>
            <a:ext cx="699120" cy="585000"/>
          </a:xfrm>
          <a:prstGeom prst="straightConnector1">
            <a:avLst/>
          </a:prstGeom>
          <a:ln w="88920">
            <a:solidFill>
              <a:srgbClr val="9bbb59"/>
            </a:solidFill>
            <a:prstDash val="sysDash"/>
            <a:miter/>
            <a:tailEnd len="med" type="arrow" w="med"/>
          </a:ln>
        </p:spPr>
      </p:cxnSp>
      <p:sp>
        <p:nvSpPr>
          <p:cNvPr id="2457" name="Rectangle 32"/>
          <p:cNvSpPr/>
          <p:nvPr/>
        </p:nvSpPr>
        <p:spPr>
          <a:xfrm>
            <a:off x="395280" y="105264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Ключевая точка – перспективный контраген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8" name="Oval 43"/>
          <p:cNvSpPr/>
          <p:nvPr/>
        </p:nvSpPr>
        <p:spPr>
          <a:xfrm>
            <a:off x="7256520" y="4178160"/>
            <a:ext cx="1368360" cy="129564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рганизац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ержатель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кти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9" name="Oval 45"/>
          <p:cNvSpPr/>
          <p:nvPr/>
        </p:nvSpPr>
        <p:spPr>
          <a:xfrm>
            <a:off x="395280" y="1916280"/>
            <a:ext cx="1368360" cy="129528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редито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0" name="Oval 43"/>
          <p:cNvSpPr/>
          <p:nvPr/>
        </p:nvSpPr>
        <p:spPr>
          <a:xfrm>
            <a:off x="2046240" y="4935600"/>
            <a:ext cx="1513080" cy="143820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рганизация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олжн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1" name="Rectangle 2048"/>
          <p:cNvSpPr/>
          <p:nvPr/>
        </p:nvSpPr>
        <p:spPr>
          <a:xfrm>
            <a:off x="395280" y="26028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Центр развити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коллектор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2" name="Line 2049"/>
          <p:cNvSpPr/>
          <p:nvPr/>
        </p:nvSpPr>
        <p:spPr>
          <a:xfrm>
            <a:off x="1979640" y="54936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6" name="Oval 43"/>
          <p:cNvSpPr/>
          <p:nvPr/>
        </p:nvSpPr>
        <p:spPr>
          <a:xfrm>
            <a:off x="4254480" y="1727280"/>
            <a:ext cx="1513080" cy="143820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тенциальны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купатель акти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63" name="Группа 15"/>
          <p:cNvGrpSpPr/>
          <p:nvPr/>
        </p:nvGrpSpPr>
        <p:grpSpPr>
          <a:xfrm>
            <a:off x="5778360" y="3494160"/>
            <a:ext cx="576360" cy="1368360"/>
            <a:chOff x="5778360" y="3494160"/>
            <a:chExt cx="576360" cy="1368360"/>
          </a:xfrm>
        </p:grpSpPr>
        <p:sp>
          <p:nvSpPr>
            <p:cNvPr id="2464" name="Oval 48"/>
            <p:cNvSpPr/>
            <p:nvPr/>
          </p:nvSpPr>
          <p:spPr>
            <a:xfrm>
              <a:off x="5778360" y="34941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5" name="AutoShape 47"/>
            <p:cNvSpPr/>
            <p:nvPr/>
          </p:nvSpPr>
          <p:spPr>
            <a:xfrm>
              <a:off x="5778360" y="4070520"/>
              <a:ext cx="576360" cy="792000"/>
            </a:xfrm>
            <a:prstGeom prst="flowChartMerg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Бенефициар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66" name="Line 49"/>
          <p:cNvSpPr/>
          <p:nvPr/>
        </p:nvSpPr>
        <p:spPr>
          <a:xfrm>
            <a:off x="6753240" y="2276640"/>
            <a:ext cx="611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7" name="Line 38"/>
          <p:cNvSpPr/>
          <p:nvPr/>
        </p:nvSpPr>
        <p:spPr>
          <a:xfrm>
            <a:off x="6337440" y="4533840"/>
            <a:ext cx="901440" cy="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8" name="Line 38"/>
          <p:cNvSpPr/>
          <p:nvPr/>
        </p:nvSpPr>
        <p:spPr>
          <a:xfrm flipV="1">
            <a:off x="3635280" y="4533840"/>
            <a:ext cx="2143080" cy="10908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69" name="Прямая со стрелкой 26"/>
          <p:cNvCxnSpPr/>
          <p:nvPr/>
        </p:nvCxnSpPr>
        <p:spPr>
          <a:xfrm>
            <a:off x="1674360" y="2890440"/>
            <a:ext cx="3545640" cy="1384920"/>
          </a:xfrm>
          <a:prstGeom prst="straightConnector1">
            <a:avLst/>
          </a:prstGeom>
          <a:ln w="889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70" name="Oval 43"/>
          <p:cNvSpPr/>
          <p:nvPr/>
        </p:nvSpPr>
        <p:spPr>
          <a:xfrm>
            <a:off x="7020000" y="1652760"/>
            <a:ext cx="1512720" cy="143820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рубежны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нвесторы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71" name="Прямая со стрелкой 27"/>
          <p:cNvCxnSpPr>
            <a:endCxn id="2470" idx="3"/>
          </p:cNvCxnSpPr>
          <p:nvPr/>
        </p:nvCxnSpPr>
        <p:spPr>
          <a:xfrm flipV="1">
            <a:off x="3812760" y="2878920"/>
            <a:ext cx="3428280" cy="723240"/>
          </a:xfrm>
          <a:prstGeom prst="straightConnector1">
            <a:avLst/>
          </a:prstGeom>
          <a:ln w="88920">
            <a:solidFill>
              <a:srgbClr val="9bbb59"/>
            </a:solidFill>
            <a:prstDash val="sysDash"/>
            <a:miter/>
            <a:tailEnd len="med" type="arrow" w="med"/>
          </a:ln>
        </p:spPr>
      </p:cxnSp>
      <p:sp>
        <p:nvSpPr>
          <p:cNvPr id="2472" name="Oval 43"/>
          <p:cNvSpPr/>
          <p:nvPr/>
        </p:nvSpPr>
        <p:spPr>
          <a:xfrm>
            <a:off x="3778200" y="3263760"/>
            <a:ext cx="5153040" cy="365616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Холдин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755280" y="764640"/>
            <a:ext cx="7705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Алгоритм планирования взыск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4824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80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) Системное описание ситуаци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связанной с долгом, т.е. исследование связей оппонентов для нахождения «ключевых точек».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0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80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2) Моделирование возможных действий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понентов и связанных с ним лиц (могут ли они вообще совершить необходимые действия либо необходимо воздействовать на другие элементы системы, как будут сопротивляться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5" name="Rectangle 25"/>
          <p:cNvSpPr/>
          <p:nvPr/>
        </p:nvSpPr>
        <p:spPr>
          <a:xfrm>
            <a:off x="684360" y="508464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3) Составление Программы взыскания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к письменного документа с определением участвующих отделов (юристы,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СБ и т.д.), необходимости аутсорсинга и т.д. Каждый шаг может описываться-демонстрироваться-реализовыватьс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6" name="Rectangle 9"/>
          <p:cNvSpPr/>
          <p:nvPr/>
        </p:nvSpPr>
        <p:spPr>
          <a:xfrm>
            <a:off x="395280" y="26028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Центр развити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коллектор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7" name="Line 10"/>
          <p:cNvSpPr/>
          <p:nvPr/>
        </p:nvSpPr>
        <p:spPr>
          <a:xfrm>
            <a:off x="1979640" y="54936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8" name="Picture 4" descr="http://content.izvestia.ru/152270.jpg"/>
          <p:cNvPicPr/>
          <p:nvPr/>
        </p:nvPicPr>
        <p:blipFill>
          <a:blip r:embed="rId1"/>
          <a:stretch/>
        </p:blipFill>
        <p:spPr>
          <a:xfrm>
            <a:off x="5292720" y="1916280"/>
            <a:ext cx="3554280" cy="2663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800"/>
                                        <p:tgtEl>
                                          <p:spTgt spid="2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2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2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2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2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Rectangle 9"/>
          <p:cNvSpPr/>
          <p:nvPr/>
        </p:nvSpPr>
        <p:spPr>
          <a:xfrm>
            <a:off x="395280" y="26028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Центр развити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коллектор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0" name="Line 10"/>
          <p:cNvSpPr/>
          <p:nvPr/>
        </p:nvSpPr>
        <p:spPr>
          <a:xfrm>
            <a:off x="1979640" y="54936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755280" y="764640"/>
            <a:ext cx="7705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Оценка приоритетности ключевых точе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758520" y="1534680"/>
            <a:ext cx="40654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64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А. Проверка наличия особо благоприятных условий для взыск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4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одажа бизнеса/актив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4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лючевая точка - предполагаемый покупатель, его вышестоящие структуры/кредиторы и т.д.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4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жидаемое /анонсирование участие лиц, связанных с должником в конференция/выставка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4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лючевая точка - организаторы этих мероприят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4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ерьезн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4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мпром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4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лючевая точка – контролирующие орган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4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3" name="Rectangle 23"/>
          <p:cNvSpPr/>
          <p:nvPr/>
        </p:nvSpPr>
        <p:spPr>
          <a:xfrm>
            <a:off x="3851280" y="4633920"/>
            <a:ext cx="511344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4240" indent="177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4240" indent="177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Б. Выбор среди обычных ключевых точек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4240" indent="177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. Участники/владельцы организац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4240" indent="177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. Крупные уважаемые объединения/ крупные контрагенты с оборотом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4240" indent="177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. Не особо известные контрагент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4240" indent="177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. Контролирующие орган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4" name="Picture 2" descr="http://riadagestan.ru.images.1c-bitrix-cdn.ru/upload/iblock/2c9/2c9df749517c7dec4ffcf02c7a950af2.jpg?138009060020985"/>
          <p:cNvPicPr/>
          <p:nvPr/>
        </p:nvPicPr>
        <p:blipFill>
          <a:blip r:embed="rId1"/>
          <a:stretch/>
        </p:blipFill>
        <p:spPr>
          <a:xfrm>
            <a:off x="5002200" y="153504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Rectangle 2051"/>
          <p:cNvSpPr/>
          <p:nvPr/>
        </p:nvSpPr>
        <p:spPr>
          <a:xfrm>
            <a:off x="395280" y="981000"/>
            <a:ext cx="78487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роверка контрагентов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основные возможност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431640" y="530280"/>
            <a:ext cx="8136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Особенности эффективных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реестров долговых ситуаций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6" name=""/>
          <p:cNvSpPr txBox="1"/>
          <p:nvPr/>
        </p:nvSpPr>
        <p:spPr>
          <a:xfrm>
            <a:off x="4140000" y="1844280"/>
            <a:ext cx="4824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4240" indent="32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)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Указание участников и руководителей организации-должника на момент возникновения долга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по данным ЕГРЮЛ и/или СМИ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7" name="Rectangle 10"/>
          <p:cNvSpPr/>
          <p:nvPr/>
        </p:nvSpPr>
        <p:spPr>
          <a:xfrm>
            <a:off x="395280" y="26028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Центр развити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коллектор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8" name="Line 11"/>
          <p:cNvSpPr/>
          <p:nvPr/>
        </p:nvSpPr>
        <p:spPr>
          <a:xfrm>
            <a:off x="1979640" y="54936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9" name="Рисунок 1" descr="C:\Users\111\Desktop\logo-mdeloros.jpg"/>
          <p:cNvPicPr/>
          <p:nvPr/>
        </p:nvPicPr>
        <p:blipFill>
          <a:blip r:embed="rId1"/>
          <a:stretch/>
        </p:blipFill>
        <p:spPr>
          <a:xfrm>
            <a:off x="250920" y="1989000"/>
            <a:ext cx="3878280" cy="1152720"/>
          </a:xfrm>
          <a:prstGeom prst="rect">
            <a:avLst/>
          </a:prstGeom>
          <a:ln w="0">
            <a:noFill/>
          </a:ln>
        </p:spPr>
      </p:pic>
      <p:sp>
        <p:nvSpPr>
          <p:cNvPr id="2490" name="Прямоугольник 7"/>
          <p:cNvSpPr/>
          <p:nvPr/>
        </p:nvSpPr>
        <p:spPr>
          <a:xfrm>
            <a:off x="250920" y="3357720"/>
            <a:ext cx="849780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казание других организаций, где лица из п. 1 имеют долю или занимают руководящий пост сейчас или в прошлом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по данным ЕГРЮЛ и/или СМИ);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42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842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Юридическая и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проработанность проекта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положение о реестре, правовая позиция по проблемным вопросам, план продвижения, положение об анти-премии и т.д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42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42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асштабируемость и возможность передачи опыта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прежде всего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для создания отраслевых реестров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которые могут быть достаточно полны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800"/>
                                        <p:tgtEl>
                                          <p:spTgt spid="2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2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2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2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136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Актуальность частного рейтинга отделов приставов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2" name=""/>
          <p:cNvSpPr txBox="1"/>
          <p:nvPr/>
        </p:nvSpPr>
        <p:spPr>
          <a:xfrm>
            <a:off x="468000" y="1412640"/>
            <a:ext cx="410364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2440" indent="2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Учет не только отрицательных, но и положительных моментов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2440" indent="2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2440" indent="2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Источники данных для рейтинга: статистика по отделам, информация взыскателей, онлайн-голосование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2440" indent="2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82440" indent="28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Воздействуют на приставов «иллюстративные» примеры в пресс-релизах по рейтингу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3" name="Rectangle 10"/>
          <p:cNvSpPr/>
          <p:nvPr/>
        </p:nvSpPr>
        <p:spPr>
          <a:xfrm>
            <a:off x="395280" y="26028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Центр развити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коллектор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4" name="Line 11"/>
          <p:cNvSpPr/>
          <p:nvPr/>
        </p:nvSpPr>
        <p:spPr>
          <a:xfrm>
            <a:off x="1979640" y="54936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5" name="Прямоугольник 7"/>
          <p:cNvSpPr/>
          <p:nvPr/>
        </p:nvSpPr>
        <p:spPr>
          <a:xfrm>
            <a:off x="250920" y="4869000"/>
            <a:ext cx="849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Основные моменты для использования рейтинга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42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* шаблон уведомления о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сопровождении исполнительного производств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42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* периодическое (раз в 2-3 мес.) направление проектов пресс-релизов в УФССП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4240" indent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* публикация состояния рейтинга с полож./негатив. примера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6" name="Picture 9" descr="http://www.bezformata.ru/content/Images/000/003/683/image3683704.jpg"/>
          <p:cNvPicPr/>
          <p:nvPr/>
        </p:nvPicPr>
        <p:blipFill>
          <a:blip r:embed="rId1"/>
          <a:stretch/>
        </p:blipFill>
        <p:spPr>
          <a:xfrm>
            <a:off x="4643280" y="1628640"/>
            <a:ext cx="399600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Rectangle 1030"/>
          <p:cNvSpPr/>
          <p:nvPr/>
        </p:nvSpPr>
        <p:spPr>
          <a:xfrm>
            <a:off x="468360" y="2637000"/>
            <a:ext cx="831672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митрий Жданухин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енеральный директо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Центра развития коллекторства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зидент Ассоциации корпоративного коллекторства, к.ю.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director@corpcollection.ru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7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95 40 9753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8" name="Rectangle 1035"/>
          <p:cNvSpPr/>
          <p:nvPr/>
        </p:nvSpPr>
        <p:spPr>
          <a:xfrm>
            <a:off x="428760" y="1268280"/>
            <a:ext cx="82087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Желаю, чтобы рассказанное не пригодилось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9" name="Rectangle 1039"/>
          <p:cNvSpPr/>
          <p:nvPr/>
        </p:nvSpPr>
        <p:spPr>
          <a:xfrm>
            <a:off x="395280" y="260280"/>
            <a:ext cx="2808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Центр развит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коллектор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0" name="Line 1040"/>
          <p:cNvSpPr/>
          <p:nvPr/>
        </p:nvSpPr>
        <p:spPr>
          <a:xfrm>
            <a:off x="2916360" y="692280"/>
            <a:ext cx="575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1" name="Rectangle 1041"/>
          <p:cNvSpPr/>
          <p:nvPr/>
        </p:nvSpPr>
        <p:spPr>
          <a:xfrm>
            <a:off x="5145120" y="5931000"/>
            <a:ext cx="3527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www.corpcollection.r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2" name="Line 8"/>
          <p:cNvSpPr/>
          <p:nvPr/>
        </p:nvSpPr>
        <p:spPr>
          <a:xfrm>
            <a:off x="611280" y="6237360"/>
            <a:ext cx="4546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2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Rectangle 9"/>
          <p:cNvSpPr/>
          <p:nvPr/>
        </p:nvSpPr>
        <p:spPr>
          <a:xfrm>
            <a:off x="395280" y="26028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Центр развити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коллектор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1" name="Line 10"/>
          <p:cNvSpPr/>
          <p:nvPr/>
        </p:nvSpPr>
        <p:spPr>
          <a:xfrm>
            <a:off x="1979640" y="54936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2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7705800" cy="71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одход к работе с долг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/>
          </p:nvPr>
        </p:nvSpPr>
        <p:spPr>
          <a:xfrm>
            <a:off x="4571640" y="1699920"/>
            <a:ext cx="4033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63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Господи, дай мне силы, чтобы изменить то, что я могу изменить,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3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терпение, чтобы принять то, что я изменить не могу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3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и мудрость, чтобы отличить одно от другого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4" name="Rectangle 25"/>
          <p:cNvSpPr/>
          <p:nvPr/>
        </p:nvSpPr>
        <p:spPr>
          <a:xfrm>
            <a:off x="652320" y="4292640"/>
            <a:ext cx="8096400" cy="29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Основные практически ситуации требующие проверк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ланированное мошенничество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менение надежности контрагента (цепочка неплатежей, изменение структуры холдинга и т.д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Правильная проверка дает основы для переговоров и быстрого взыск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5" name="Picture 10" descr="http://s1.postimage.org/usbhy3j4/4573_s.jpg"/>
          <p:cNvPicPr/>
          <p:nvPr/>
        </p:nvPicPr>
        <p:blipFill>
          <a:blip r:embed="rId1"/>
          <a:stretch/>
        </p:blipFill>
        <p:spPr>
          <a:xfrm>
            <a:off x="684360" y="1700280"/>
            <a:ext cx="37368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2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2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2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2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Rectangle 2051"/>
          <p:cNvSpPr/>
          <p:nvPr/>
        </p:nvSpPr>
        <p:spPr>
          <a:xfrm>
            <a:off x="4643280" y="1268280"/>
            <a:ext cx="3888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4240" indent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) Создание или «слив» фирмы на подставных лиц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включая реорганизацию холдингов и ведение бизнеса сразу через номинал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4240" indent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4240" indent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2) «Управляемое банкротство»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предварительной переброской активов / денежных поток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4240" indent="17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7" name="Rectangle 2048"/>
          <p:cNvSpPr/>
          <p:nvPr/>
        </p:nvSpPr>
        <p:spPr>
          <a:xfrm>
            <a:off x="395280" y="26028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Центр развити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коллектор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8" name="Line 2049"/>
          <p:cNvSpPr/>
          <p:nvPr/>
        </p:nvSpPr>
        <p:spPr>
          <a:xfrm>
            <a:off x="1979640" y="54936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9" name="Rectangle 2064"/>
          <p:cNvSpPr/>
          <p:nvPr/>
        </p:nvSpPr>
        <p:spPr>
          <a:xfrm>
            <a:off x="324000" y="4508640"/>
            <a:ext cx="882000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3) Сильное юридическое / административное / коррупционное сопротивление взысканию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статочно часто встречается со стороны крупных бизнес структу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4) Мошенничество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в том числе, подготовленное – с частными платежами и т.д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0544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Основные варианты долговых пробле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1" name="Picture 8" descr="http://ukranews.com/uploads/news/2011/02/09/17/2f8e056552e8f17761d3c4b1e3029953cc382392.jpg"/>
          <p:cNvPicPr/>
          <p:nvPr/>
        </p:nvPicPr>
        <p:blipFill>
          <a:blip r:embed="rId1"/>
          <a:stretch/>
        </p:blipFill>
        <p:spPr>
          <a:xfrm>
            <a:off x="684360" y="1341360"/>
            <a:ext cx="38876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Rectangle 2051"/>
          <p:cNvSpPr/>
          <p:nvPr/>
        </p:nvSpPr>
        <p:spPr>
          <a:xfrm>
            <a:off x="395280" y="765000"/>
            <a:ext cx="54007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Особенности долговых проблем в Росси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е еще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шевы 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доступны способы уклон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от погашения задолженност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вершенствуются юридические механизмы (субсидиарная ответственность и т.д.), но они част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дороги и не оперативн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3" name="Rectangle 2048"/>
          <p:cNvSpPr/>
          <p:nvPr/>
        </p:nvSpPr>
        <p:spPr>
          <a:xfrm>
            <a:off x="395280" y="26028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Центр развити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коллектор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4" name="Line 2049"/>
          <p:cNvSpPr/>
          <p:nvPr/>
        </p:nvSpPr>
        <p:spPr>
          <a:xfrm>
            <a:off x="1979640" y="549360"/>
            <a:ext cx="676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5" name="Rectangle 2064"/>
          <p:cNvSpPr/>
          <p:nvPr/>
        </p:nvSpPr>
        <p:spPr>
          <a:xfrm>
            <a:off x="395280" y="4844880"/>
            <a:ext cx="84978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многие новые схемы первыми начинают использовать недобросовестные должни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без отсутствующего повышения эффективности уголовного преследования другие изменения часто применяются избирательн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6" name="Picture 2" descr="http://www.taday.ru/data/679/598/1234/3047.jpg"/>
          <p:cNvPicPr/>
          <p:nvPr/>
        </p:nvPicPr>
        <p:blipFill>
          <a:blip r:embed="rId1"/>
          <a:stretch/>
        </p:blipFill>
        <p:spPr>
          <a:xfrm>
            <a:off x="5796000" y="1052640"/>
            <a:ext cx="2752560" cy="37605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0544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Оценка и мониторинг проблемности долг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8" name="Rectangle 3"/>
          <p:cNvSpPr/>
          <p:nvPr/>
        </p:nvSpPr>
        <p:spPr>
          <a:xfrm>
            <a:off x="395280" y="26028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Центр развити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коллектор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9" name="Line 4"/>
          <p:cNvSpPr/>
          <p:nvPr/>
        </p:nvSpPr>
        <p:spPr>
          <a:xfrm>
            <a:off x="1979640" y="549360"/>
            <a:ext cx="6769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0" name="Rectangle 23"/>
          <p:cNvSpPr/>
          <p:nvPr/>
        </p:nvSpPr>
        <p:spPr>
          <a:xfrm>
            <a:off x="900000" y="1700280"/>
            <a:ext cx="41036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4240" indent="177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нализ опыта банкротства и использования «номиналов» в работе и «сливе» организаци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4240" indent="177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4240" indent="177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сследование систем - бизнес-партнеров учредителей проверяемых организаци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4240" indent="177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4240" indent="17784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ценка холдинговой структуры на предмет ее использования для защиты от взыск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1" name="Rectangle 23"/>
          <p:cNvSpPr/>
          <p:nvPr/>
        </p:nvSpPr>
        <p:spPr>
          <a:xfrm>
            <a:off x="1042920" y="5373720"/>
            <a:ext cx="7632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4240" indent="177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Анализ ЕГРЮЛ, ЕФРСБ, Картотеки арбитражных дел и Банка данных исполнительных производств дополняется исследованием информации в открытых источника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84240" indent="177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2" name="Picture 2" descr="http://forums.drom.ru/attachment.php?attachmentid=1713438&amp;d=1321686055"/>
          <p:cNvPicPr/>
          <p:nvPr/>
        </p:nvPicPr>
        <p:blipFill>
          <a:blip r:embed="rId1"/>
          <a:stretch/>
        </p:blipFill>
        <p:spPr>
          <a:xfrm>
            <a:off x="5292720" y="1700280"/>
            <a:ext cx="3095640" cy="30970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05440" cy="67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Основные возможности для сбора информаци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53690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476"/>
              </a:spcBef>
              <a:buClr>
                <a:srgbClr val="ee201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оиск в интернете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(сайт должника и Ко, общий поиск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476"/>
              </a:spcBef>
              <a:buClr>
                <a:srgbClr val="ee2010"/>
              </a:buClr>
              <a:buSzPct val="6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Информационные ресурсы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(ЕГРЮЛ,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rbitr.ru, LexisNexis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и др. с помощью СПАРК, </a:t>
            </a:r>
            <a:r>
              <a:rPr b="1" lang="ru-RU" sz="1900" spc="-1" strike="noStrike">
                <a:solidFill>
                  <a:srgbClr val="ff0000"/>
                </a:solidFill>
                <a:latin typeface="Verdana"/>
              </a:rPr>
              <a:t>Контур-Фокус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476"/>
              </a:spcBef>
              <a:buClr>
                <a:srgbClr val="ee2010"/>
              </a:buClr>
              <a:buSzPct val="6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Моделирование и опрос экспертов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(кто мог бы быть контрагентом и т.д.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476"/>
              </a:spcBef>
              <a:buClr>
                <a:srgbClr val="ee2010"/>
              </a:buClr>
              <a:buSzPct val="6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Verdana"/>
              </a:rPr>
              <a:t>Бывшие и действующие сотрудники (Название + резюме в </a:t>
            </a:r>
            <a:r>
              <a:rPr b="1" lang="en-US" sz="1900" spc="-1" strike="noStrike">
                <a:solidFill>
                  <a:srgbClr val="ff0000"/>
                </a:solidFill>
                <a:latin typeface="Verdana"/>
              </a:rPr>
              <a:t>hh.ru, superjob.ru </a:t>
            </a:r>
            <a:r>
              <a:rPr b="1" lang="ru-RU" sz="1900" spc="-1" strike="noStrike">
                <a:solidFill>
                  <a:srgbClr val="ff0000"/>
                </a:solidFill>
                <a:latin typeface="Verdana"/>
              </a:rPr>
              <a:t>и т.д.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476"/>
              </a:spcBef>
              <a:buClr>
                <a:srgbClr val="ee2010"/>
              </a:buClr>
              <a:buSzPct val="6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Провокация передачи компромата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(объявления, пресс-релизы и т.д.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90000"/>
              </a:lnSpc>
              <a:spcBef>
                <a:spcPts val="476"/>
              </a:spcBef>
              <a:buClr>
                <a:srgbClr val="ee2010"/>
              </a:buClr>
              <a:buSzPct val="6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Иные способы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(эл. почта, легендированный опрос и т.д.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5" name="Rectangle 3"/>
          <p:cNvSpPr/>
          <p:nvPr/>
        </p:nvSpPr>
        <p:spPr>
          <a:xfrm>
            <a:off x="395280" y="26028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Центр развити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коллектор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6" name="Line 4"/>
          <p:cNvSpPr/>
          <p:nvPr/>
        </p:nvSpPr>
        <p:spPr>
          <a:xfrm>
            <a:off x="1979640" y="549360"/>
            <a:ext cx="6769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7" name="Picture 2" descr="http://s2.hubimg.com/u/5325413_177.jpg"/>
          <p:cNvPicPr/>
          <p:nvPr/>
        </p:nvPicPr>
        <p:blipFill>
          <a:blip r:embed="rId1"/>
          <a:stretch/>
        </p:blipFill>
        <p:spPr>
          <a:xfrm>
            <a:off x="5435640" y="1989000"/>
            <a:ext cx="3095640" cy="30974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719280" y="836640"/>
            <a:ext cx="7705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Основные задачи для взыскания решаемые с помощью информационных систе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1640" y="2060280"/>
            <a:ext cx="37306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)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иск индикаторов долговых пробл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2)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хождение параллельного бизнеса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организаций, через которые продолжается деятельн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0" name="Rectangle 25"/>
          <p:cNvSpPr/>
          <p:nvPr/>
        </p:nvSpPr>
        <p:spPr>
          <a:xfrm>
            <a:off x="900000" y="4292640"/>
            <a:ext cx="784872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3)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емонстрация связи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жду различными организациями по учредителям, адресу, телефону и т.д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4)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нформация по бизнесу интересующих компаний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госконтракты, товарные знаки, проверки, иногда балансы и т.д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1" name="Picture 2" descr="http://www.bestural.com/uploads/gadgets/image/%D0%BA%D0%BE%D0%BD%D1%82%D1%83%D1%80-%D1%84%D0%BE%D0%BA%D1%83%D1%81.jpg"/>
          <p:cNvPicPr/>
          <p:nvPr/>
        </p:nvPicPr>
        <p:blipFill>
          <a:blip r:embed="rId1"/>
          <a:stretch/>
        </p:blipFill>
        <p:spPr>
          <a:xfrm>
            <a:off x="1258920" y="1844640"/>
            <a:ext cx="3097080" cy="2333520"/>
          </a:xfrm>
          <a:prstGeom prst="rect">
            <a:avLst/>
          </a:prstGeom>
          <a:ln w="0">
            <a:noFill/>
          </a:ln>
        </p:spPr>
      </p:pic>
      <p:sp>
        <p:nvSpPr>
          <p:cNvPr id="2402" name="Rectangle 3"/>
          <p:cNvSpPr/>
          <p:nvPr/>
        </p:nvSpPr>
        <p:spPr>
          <a:xfrm>
            <a:off x="395280" y="26028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Центр развити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коллектор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3" name="Line 4"/>
          <p:cNvSpPr/>
          <p:nvPr/>
        </p:nvSpPr>
        <p:spPr>
          <a:xfrm>
            <a:off x="1979640" y="549360"/>
            <a:ext cx="6769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800"/>
                                        <p:tgtEl>
                                          <p:spTgt spid="2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2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2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2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755280" y="728280"/>
            <a:ext cx="77058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римерный алгоритм проверк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539280" y="1630080"/>
            <a:ext cx="81378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)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иск в сети интернет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сначала по новостям, затем через систему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igma.ru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с помощью сочетаний «отзывы», «проблемы», «долги», поиск по телефонам, эл почте, адресам и т.д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2)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нализ представленных документов и информации в системах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СПАРК, Контур-Фокус, или хотя бы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grul.nalog.r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)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сследование информации по работникам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есть ли резюме бывших и действующих работников, негативные отзывы, при необходимости контакт с работникам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4)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нализ информации по судам и ФССП РФ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с кем и как судились в рамках этой и связанных компаний, какие текущие процессы и их возможные последств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5)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иск в сети интернет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сначала по новостям, затем через систему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igma.ru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с помощью сочетаний «отзывы», «проблемы», «долги» и т.д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6" name="Rectangle 3"/>
          <p:cNvSpPr/>
          <p:nvPr/>
        </p:nvSpPr>
        <p:spPr>
          <a:xfrm>
            <a:off x="395280" y="26028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Центр развития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Gothic"/>
              </a:rPr>
              <a:t>коллекторств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840" indent="-33984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7" name="Line 4"/>
          <p:cNvSpPr/>
          <p:nvPr/>
        </p:nvSpPr>
        <p:spPr>
          <a:xfrm>
            <a:off x="1979640" y="549360"/>
            <a:ext cx="6769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2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2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2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2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6T09:54:10Z</dcterms:created>
  <dc:creator>User</dc:creator>
  <dc:description/>
  <dc:language>en-US</dc:language>
  <cp:lastModifiedBy>Dragon</cp:lastModifiedBy>
  <dcterms:modified xsi:type="dcterms:W3CDTF">2017-03-13T07:28:20Z</dcterms:modified>
  <cp:revision>224</cp:revision>
  <dc:subject/>
  <dc:title>Слайд 1</dc:title>
</cp:coreProperties>
</file>