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dt" idx="15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 type="ftr" idx="15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 type="sldNum" idx="15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9E9B-B999-4CAF-9251-A23F071D31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ADBD-7BCF-4335-8BA2-40944DCE4EE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F51-1FE8-4269-9793-09DF66CD46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96F5-8F84-4C7B-BA67-DC28D1F77D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6B7D-E60F-47A1-8F24-AE2D2FB457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231-2055-4EC5-8D88-7986F45B5B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A27E-2590-4400-B468-F265DBC2C2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09E6-B7CE-4249-B4B3-46A727F193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263C-B4B0-4885-A743-BB3BE36446C2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9188-35E8-46A3-9FB0-111A3FDB2F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DA43-FBE5-43A7-8890-4D960F02A9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29B9-B3A8-4362-8771-F2956CF093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0CF7-155E-4768-9105-A48C9B806D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4C1-4016-4F39-A2D1-7696124F52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814-2C5D-4CF9-AD88-68B4C6D627E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4C1-5734-4E9A-8F04-BB0F214AC3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CFA-2EAF-4702-9757-1945373E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E38-5624-4290-887F-73205B7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27618-8A1C-4222-A3F2-29BCBE8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6AF9-83F4-47A6-A1E2-9344A459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81DAC-3AA1-46E9-A9FF-EE8619B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A66F3-EDEF-4491-9D3D-C46E46F7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BC457-744E-42A0-AA75-555519D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5CFD3-4B3C-4F57-801F-D5D9097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8B0A4-A692-4882-80C8-EB30894D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77E65-48BC-4F41-8B77-F4F6E722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7FF53-47DC-4EF8-93C9-60F85B11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283FB-F500-4A1F-9956-A8A172B9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826-DE2B-43D9-9270-05604C13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74465-72C2-4666-B2C7-D7259D1D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F59B6-0F8D-4998-A448-ABCC745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E0002-E87B-4B2F-AE69-3B3AADD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8B76F-6008-4C11-A548-3224ADCC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6B16-D0C0-43B9-8C83-B93AD710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4D2D1-BB21-4B94-AA12-E0E8D1B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3F9B1-223F-4DBB-B284-5496ABB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CF283-80CC-4CE2-9ED0-0EF6261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C5854-874C-4609-A879-C6E699B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2F43-C1C5-4AC1-9C23-DCC3A956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516-4B93-4EC5-B2C6-2126245B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27017-9AED-4CF5-B7A2-BB77187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6DC12-277A-49A5-A822-BFD01E9D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7ACBB-B096-4D52-A079-A74E722B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D73A2-118F-4DAE-B214-F3831E1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A72A9-E9C8-45A7-A278-65FF98D3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E5C81-5F51-44E6-A938-770C2E2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633FF-4165-45E1-B4BB-912AD98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3975A-C42C-4425-9FBA-9C204087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186CF-EB22-4DE7-A881-B60134B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CB85E-EB3A-4C1C-9D96-6DA5DFD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3D5B-A15F-48C1-9C0A-C6945D04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A7AEB-D38B-4C57-AE6E-DF57E4D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B2D35-B661-45E6-A0BF-E2D0030D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AB17F-50B8-428A-AA03-F9063FFC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D807B-ED7C-41A8-A04B-7C9C9508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60D87-4CE8-4D41-828A-C0021DE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D3D7D-33CA-4EAC-A61D-4AD54EBA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3B42B-C964-442B-94DB-5691A20C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55FC7-8612-4DB6-9E13-EFEBF112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3F66D-B410-4603-8A17-D8AA9AE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7DCCD-C57A-48AD-BA1D-2C96BAF0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F485-3842-4E96-BEBD-65EE2AA9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D1AFB-68BF-4D3D-BB52-9B17C2B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428A4-9349-4ABF-BF44-13F2B23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1D8B3-F9B9-4755-AD45-E2790230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7DB70-44BE-4AA8-9027-D4BCADBB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15D6F-A494-4F7F-97A5-1D107EEC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21AFB-1067-4D8C-8AAA-937B059F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E9CCD-AA0A-4B76-A80E-4C838BEE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36AF8-87DF-4021-9EFC-F9D18FA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1B29A-700A-47AD-A9B6-9BAFE8AF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AD62B-1C40-4A94-976F-4FB790AD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8B9B-C123-4D84-8945-7E168FAF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51E85-6A37-462E-88DD-FEC455A1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294A4-CDC8-4BD5-967F-3D2B3AC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65FD2-91B6-45CB-8075-52CA0E1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633E0-90BD-4213-AEA1-6BF3566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AEE34-2647-476B-A0A0-E8D3E44B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C4277-1C85-4F70-BB29-06311D8C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DE5E9-CC51-4721-8EAF-66F029B2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E2F23-4EC6-409B-A7B1-2676D5F3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A8523-EFEA-4087-909B-566D269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0EE09-6BAA-4489-8CB2-21237959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7A1C-84D9-4D74-862C-50CC0CDA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5EE5C-D908-4832-8655-24D9BC5B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12097-4D82-44A2-9F6D-E131BD70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B6AD5-CDD8-4383-8D7E-446F6D44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C9810-445C-418B-9531-CF18D19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3EB42-FB3E-4878-A7D8-BC89C2A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3886F-090B-4EBE-AA23-96078BF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B07DA-6F34-4826-A059-0D198A9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684548-8854-4528-B4E1-FC385557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C44F2-4790-4D88-AC6B-44B2C032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4E81B-57FF-48BD-A095-BE6A7B1E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CE39-52FD-4D03-8F89-C9A6D6D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EB40D-C278-4716-8F71-84B1F8AD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B74C15-892C-4A1B-9FBB-73DBE17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FBCE8E-D7CB-4866-81D3-715FCD25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EF029-A04C-4D58-9830-87485567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0D935-8F4E-4B8D-B4EC-B9D9A5CF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D8786-3109-425A-A42D-750C892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F93C3-B3FD-46F9-8C99-0200C81A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7F549-64F2-4DFA-BE60-5B15D77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725E4-6972-4D42-AD63-B37DA521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78926-D103-40F9-A031-B96E6061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0A4D-CA79-43D3-BBCF-E31CD459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2D039-489A-4537-B7F8-A995A8DD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963FB-5E4B-4351-9D26-B8DF1850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F66F7-2239-44E6-904B-E5D6EBD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FC9A3-BE06-47D8-BD73-9F6912F4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14AA4-4B93-4EFE-8202-ACE8AAC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18F8C-A0CA-4E92-810D-FC7C734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3DA4A-583A-465C-9F79-38AE854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41195-C7B4-411C-BF1E-1E8B0E4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9B210-17B3-4E4D-866E-7BCB035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75D0F-8EB1-4B2D-827D-EF3EAF7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167B-4837-47C8-93CC-36441DB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2F15C8-3436-45B0-B90C-0B896D1C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851B51-3C81-4322-99A7-8CE0A0F6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57D69-4BAC-4399-9AFD-6F97BBEB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48362-CF8E-431B-ACD7-FF1F52BC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3E6B4-1358-42C6-91EF-4C42F1D5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7C6ED-9E8E-4E80-B5AE-A969BCDA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D69A6-7547-4389-88CA-ECD95E3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2A7443-1B65-4379-B52B-CEBB465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6544A-877B-4638-94E4-DC2A2E1F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7C377-DA42-4C5E-AC9D-3B78013F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E34-AFB7-47BA-A6CB-A8038B1B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A4A3-E252-4751-B8E5-066638D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0B40A-EA8D-4B09-B61A-C8463D0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AB812-9EF0-40B5-9B66-D85F0301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B3F4D0-B060-4191-8CE2-79E6637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96C3F-0618-4942-B32F-D40661C8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5C69E-324A-4AAC-8272-FCEED7FD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5D63E-EEFB-4941-A3E7-14D370E3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46C23-2F0E-40EB-8B89-2AB55F7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C0A30-D983-4DE3-A37E-10992A22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E19EF-4CE3-44A8-A5F5-2B253D7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D0E0B-1E59-48C0-9C5D-55A1BC79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AC9C-A635-485C-949D-12E6AFD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9C6474-E129-4A22-9C1C-F53AB65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FD0F1-338E-4A4A-8227-868DC1AA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45E01-BBA2-4468-A8D4-62BC66A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C94C90-30A7-4524-AEEB-562B405A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BED61-7EDD-426C-BEE7-4F0D6A4D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3005B-F704-473E-BFE7-2D2DB2C8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8C5CA3-F61C-4D92-80C7-1F2BE96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8DBD7F-8DDC-48C3-BF4B-83148A6D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0D170-C149-4D69-B0C6-D94F2B2F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770EA-6DF2-4B76-9CAF-277F8728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E707-5A98-436F-89C2-113E0B7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8D5C6-17F6-4168-92F6-EFB5A341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15EB8-46D9-4B55-815D-CA5397F7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7B3857-0D25-4DD8-8EB8-6D470C13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6E344-5527-48A8-8659-B38CD49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71CF8-F8DE-4FE6-AC25-C8683AE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94C680-B016-4970-A985-09F4A86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A4765-F239-42F4-97AF-3246ADC4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615B4-8FB3-460B-9625-C8DF7DCE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A69B3-82BF-45DF-A8E8-5956CC2B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4FDC6-CC84-4832-BC33-A72EE0CA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3250-188C-4ECD-87F9-F4E87835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A5F659-4E5C-4277-A796-1F37EC3A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52490-95A3-4565-8ED3-0EF53743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59BDF-196E-4439-8737-927DDDD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8BDAB-C652-482E-BCEA-7F87B74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FA5EAF-6189-4340-9912-E2BE272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FA5B11-A1DB-4E43-804B-114CCCCF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B2B91-DEE2-4148-BEF5-F49652FF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005B7-3FF4-4A5C-8259-0EBE37B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264099-B436-49D4-B4BD-07F4A3F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7D9D6-CE7A-4268-BB2B-A52897DB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2110-CB44-45E0-A81C-F83AA51B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407EF-DF7A-40A8-B86A-74A03C71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AB56A9-36A0-4C63-8E8C-D69C464D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E73D7-ABD1-4657-B853-DD3AB46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0BC86E-41A3-487B-96CD-3071AE2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15EE4D-7615-48BD-90CA-C3058016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6A3DA0-FD61-4C1B-A2BF-B7661C6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9D39F8-BEE7-4E91-A229-F23F1A5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5D953-54F0-429E-915D-AF0C4F83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0CDABF-1512-4072-B0A1-DCA8B7F4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FAB0F-CDF3-4873-81B0-85D9863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0526-D579-4CA7-A94B-FEACF656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16E0D-5F93-4BFE-9D0C-04155F0A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EEE56-9BA8-446E-AB10-69923EC1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A87EA-B8A5-4784-AF02-25001C16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E56FE-9027-462E-A4CC-8AC4767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61FF6-8FC5-4729-94AA-E44A2A71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B2D5D-FEFE-4E43-BF27-2897A71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57BDAB-5FB7-42DF-9012-4D7ED183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EFEB4B-F68C-48DE-BF6E-72215585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37DDC5-CA6B-451B-802F-777D23E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4C191B-7269-40DA-8A40-7753C7C6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F197-E8D8-46A8-8B24-09724A1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70C02B-0DF9-451A-8B94-82AE1D0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67B58-0746-42F0-9F05-E17B484E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98944F-4333-4271-B0C4-DDAFF5D4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D60E8-5661-40D7-813A-22C3DCE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7C987-6BC0-49DC-BC36-302B9482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8FD76A-CD34-461C-BFC2-5D1AC8E1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28F49-72A0-4A1A-AD4F-3EBD6FBC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4EDB3-C8C6-4116-B974-CA502228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8C3BE-0668-4A40-93FE-7A571392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E81CC-1884-4CA7-B11A-3B8ADB49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B0901-40FF-41A7-9F03-1B99520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03A453-F15D-4355-8ECC-8C733DF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13DA00-1A61-4898-8956-D9BED4D2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A69E8-F068-4B47-80EB-15551B09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D12E1B-6245-4451-8493-0700BEA5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DC31E-E880-4527-93C3-B89C7C4C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BB7483-35A5-4A8D-8771-F996B3BD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C2A31B-0766-49B2-A79A-32D8C697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FDF83F-1B91-43AA-95BC-DB4B8B4E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6C0356-0591-4B66-9C16-A4644296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5E8C5C-8C43-41C6-86F5-537770D1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A1CC-FC07-441E-887D-5C3281D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8E8287-6900-4813-B925-3E9989C1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613807-0BF4-47C5-9419-27A6932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03254C-5CC4-40FA-B8B7-74942F62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FCF33-B4D5-4020-A579-6C6EFF14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3B10AF-6A3B-463F-8017-E48C544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6431B2-FD1A-4696-8C61-0813B6A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859B5F-F30A-4D04-AB6B-20B2DAA1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398BE0-4C12-4A52-963A-729B1AD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BB4320-8E78-4B3B-91CF-AB3E39B9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91DCE8-6C12-490C-B66A-A2C1EC2B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AC4C-BE3D-4FEF-B807-E2BE0BBD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D503D0-4A20-48AB-BA6E-AE169E3B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8665BE-8346-446D-9775-027B9B3E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258D2B-F61B-4B5B-A49F-DA02070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4F0F37-1A9B-4A22-83BB-A7E8AD78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D99518-E210-4709-9761-03712225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47B77A-A685-4BE5-8DEE-75132D3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80BC0-FA94-4140-94D7-D89C808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A460B3-9934-42A0-BC8B-066AA7F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F44B8F-AFFE-4667-B8E7-A2A0177D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EA93BC-FD77-4D26-B487-920391FC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CFB-0EAC-4514-94E9-4037B140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4138-4326-491E-A1AD-67CAAC5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302BC3-C669-45FD-B2DF-9EB33C17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CD36D2-2617-4BFF-BA13-FC7FD211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DD0EEB-6CC5-4E29-B332-E15B642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F868E9-0430-4711-81A4-E74D8321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D81518-8155-4D17-A446-01456BB7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BDE1B2-F03D-43E3-ABFE-F1E4096E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C4025C-28B8-4C5D-A042-C83ED552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C5E01C-8823-4C97-AFF8-1753276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0657A1-2820-42AA-8E88-7A20261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18851E-A00D-4498-9B59-1998926E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04D6-DE5C-49B6-92ED-EF2BCD0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681E53-0D6E-4E43-A01B-939EB8E8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9BF75A-8671-4F93-81E9-425F21C8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A614B4-1841-4768-AA1C-14289B15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BF0445-BE7C-412A-801B-7F65E21B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2B45A8-BBC3-4FE4-9BBA-46A9EA45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9CA475-CF97-45FC-9C85-2C646DA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3C672B-E311-46C9-B8F0-6F58B7B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0E9BDC-ABE3-417F-BEB0-0DBCFED2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83F108-4F1F-4877-AD0E-8408544E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99D045-D996-419C-A166-835676A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1758A-CC28-4630-9EEE-676A90A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4B7156-C444-484B-9A2E-7D3FC5D2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0AA4A2-8BB0-4071-B163-FE13F379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16D0D7-533D-4BAE-90C4-1612B5B4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4C96FA-6146-4841-BC98-87F01D81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45397A-4F98-4C70-B347-48E2942D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2C7759-DA78-48F4-ADA0-47A11EAD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EC989F-C2E1-40CE-B75E-6E8CF455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F2E748-7FA5-45E2-9772-16A6BEB7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F4D5E1-7097-433D-AEC3-EBD04C6C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7F6CA5-DD18-4CC5-BF6F-41C62A4B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6F32-A5D1-4892-8263-73DD036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3768D4-57F3-4186-BAC6-B403E674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BE82E3-FDD7-4862-A3B4-59529F1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E1247-A2DF-423C-9526-7ED0E22E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DDBB38-3F5C-4418-AEC3-A799E69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541D3E-1BB9-4B08-81E7-73581AB2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4B456A-DED9-42BA-8981-714285FD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21926E-8D2D-4B87-87EE-BDE6E8BA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E0C3BE-EED8-499D-AA63-75A2E68B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221863-8ED2-4796-AD45-DCD74453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356536-5F06-4DDB-B01D-181C273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0931-BCB9-4988-89AF-4324A329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157604-06AE-40CB-8D4C-B0E27DD9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CA2BA7-E96D-467A-8F72-D729EA33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57B708-B5D1-4B70-B47E-67681C23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1C4BDB-19A0-424D-95D0-C3337A31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0AFC6E-30DA-42DD-A200-2F889963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BCCB4B-0ACC-4F18-9030-10E0073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666B1B-2B0A-4F7B-A5B4-05263534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981BA2-0933-4BB5-9560-B8B5C580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F6C730-D77E-4FE1-84B0-AA6ED69A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7B8599-1FCE-41F6-9929-2FDE40FE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D657-E3A3-44AE-9CC2-A39E93FA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59FAE-4114-4779-908F-2EEDF79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05ED3E-D015-4561-972B-8DBC6117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380818-45D8-4E58-84B5-A8382575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C0A0CF-4F6B-4633-8CCD-4A1C054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24DECB-8440-4EC1-879C-F7923B2C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E73CC-5D13-4B83-B954-20E9220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7751F7-057B-493C-8A7C-321FEB5E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55E7A3-E50F-4FA8-827C-88A8BEAC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04685C-8B5D-4D64-B766-F97AF28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2DA319-1685-4E70-830D-644526C8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1EAA-A676-4204-A808-DFFB3F40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5E54BB-E909-4C99-81B7-4B89CCA3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202503-9C69-436C-B298-4159ABF7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13BB99-7D0C-48BD-AC06-8DB44BC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CF4A0A-FA62-4253-99C0-12C7809B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1FB80A-DF4E-45EF-B9AB-77F1B15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0B27D5-3476-4829-AA42-79E4D0C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3B721F-B9EF-4923-86A5-47FE2F3F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4F3A19-5406-4247-8EF6-AA23B66E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6C2D27-68F2-44D4-AC9E-BFB8409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FF8595-9F68-41D1-ACB2-9E812ECD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B9A9-D74A-4CC8-B02D-D45F5F4F8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CA6C43-B5AD-4231-B3CC-285B0781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1D6370-E604-4867-8203-E063593F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5ACD09-EE47-4A59-A381-26F73C48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6BC0ED-3D92-4D38-9F84-A0E63EDC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4D8909-4256-489A-9C07-6D38B576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C7F208-D6CE-4F88-BCF7-A4E0F31E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62EA7F-DF17-442B-A5DE-F932D013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B9B711-9704-42CF-A1C6-AE574D71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BF5D1F-0DD2-4A35-B5D4-5843C59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76E7EE-29D0-4A70-8841-62B8F66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E04D-483C-48B7-A8C2-DEA35EC6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04BD5E-EAE2-4854-8E63-C1BB49C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82BE4A-CC79-4E40-B741-BBC09BA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D8856E-8E3F-46FB-A08E-980C1111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E82B33-4104-4BEE-B8AB-85519E6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DB80F4-516A-4378-B4BD-287BEAFF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C90402-549D-47DB-99EF-08783D76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A18C89-F471-48A7-BDE8-8B8B57DD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4EFBE8-F5D6-4F62-B9F9-EA84EB95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3DCACF-25E1-4229-8C86-16F78E64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089D8F-5E3E-4F9E-A52B-2733F1D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DAE9-AA50-4E71-84DD-2A72E8E0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CB5D6A-FB04-4EC8-A2E9-8E281EFE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EE885C-26E8-4AAB-97CF-1175628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E7C7F3-E2B0-400C-A505-0C4B6FC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533E6E6-C5F3-40BD-9065-1DA43FFF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A0C7E7-F873-4DE1-9421-7D78B9C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9655C1-F00D-4036-9DEA-E6EE8C3B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A15C6B-E2E8-41AE-9CEA-961FC185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FF201B-09A6-4228-A1A1-BDF1040B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649AF3-35C3-4FF9-A2D8-BD2EF5FF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66725E-5455-4177-B496-A3F71DEE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CE7E-D8E2-4E70-8381-444B0840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3EDE2-C72B-43BD-881C-716F41FE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501FBC-4872-4C23-B67F-D4F59D5B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83BF06-9421-4FC4-A031-3B91DB6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1FF39B-48BB-495E-B982-FB495ADE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367B83-F3BA-4820-B3E8-CD693CD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DF8853-7DDE-4008-905B-5EF865A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6BA496-E27D-4C6B-8566-A9708A5C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573C7A-2506-40FC-B1A8-63385DAA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0A4613-7C7F-4809-A870-1D9C05A8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AB8279-B868-4C89-8A26-B55270CC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FD9952-E097-44AC-8842-C7F76091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AB48E-661A-45CF-8A75-8610F27A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193789-CE18-41B4-8F14-29E665B0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E1097F-6B4A-41C5-85C6-009CCC35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28F64E-4B13-49C3-9976-B6FE1FAB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E31FF7-2306-4ED6-9D9D-EB02BEC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4C8CF83-55BF-4AEE-9FB5-5D6584C3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88242E-338A-4DF7-9D34-5FC0EED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C0040E-DAA9-466F-BE76-84DEE0E4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3C558E-DEF6-4BDE-B418-67E2F9F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188982-8D20-4B19-97E9-543CAE0A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044287-89A6-4A33-8F6C-50493561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56AE-6DFE-4A1A-8573-F2EDC15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6D4A6A-B800-4BF3-8BDE-1580727C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48278C-7C52-4C75-98BA-380D76D0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F67368-BFC8-45BB-B821-2D05EF0B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311800-59B7-4A30-9126-FC107D27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092D76-92C1-4A35-A4E5-3CDD6AF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26E0E5-B20E-453D-A488-62416FB7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4BCE98-6F0D-4F39-BCF4-F7BC1A36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B636AA-909B-467D-9DE3-CC5A7C8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47D558-F7E7-4642-820E-C8247C33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38B2DB-079E-4808-AEDB-764EB8D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47D4-2415-4876-BCEF-10854D6F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20EC27-A7E6-436E-98FA-90F8372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45C130-5481-442B-8992-FBE54247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DA38B4-DE38-4B8E-BCE0-D2745C18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5BD9EC-CB16-4C20-83EF-87DD0163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0999F5B-441F-4EB2-8D11-C937CA6D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3F1382-B6CD-413A-9406-1ABCD77B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F311F2-4A09-4FBB-87A8-6ECB642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7F3782-6A6A-4E01-A788-336D35A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7D68E4-A274-4A73-9C73-FF3FBE24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6C84C3-1E77-454C-86C6-EC92D5D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B834-5EC9-420C-AE41-F595FAF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DDF5FE-C6C5-421A-9A64-540D71AE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33AA54-A068-4CE2-92E2-D1B36CE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4FFC41-7D0C-4C64-9E49-5E260FB8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751C9C7-D6BF-4A4D-8C26-47E6FD40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76D3B6-99B5-4017-9A9C-F29A5D74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9A3DAF-D783-4B73-9BBB-5A7BA7A5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4CD9344-7090-4532-B624-6E315BAA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E24308-05CF-4EE9-9B5C-B08E439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3C0CE0-22A9-41CC-AA19-717B16B0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B49838-68FA-4C40-8768-609F398A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4B4C-1BBC-4A1E-AADE-D7A0150B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83871C-CFE1-4E7D-B2B6-A0D1C50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01A5C7-1DBF-4564-872B-61D79D9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293B547-1E75-456C-81A4-634FC9F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01335A-D7B0-468B-8C5E-C293C91A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40AEC7-A91D-4463-87CC-BC36C722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525CE0-6E0C-4B47-ABCB-E6BAA6DD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6420E2-7CA2-476C-B73E-A84B8769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0F7641-17E3-4AFD-958A-67492BAF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5ACF6C-4A5A-46B2-A846-664354A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2F67D1-6EF9-4EF6-BFD8-C1F86A91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891A-B983-4789-94E1-5183564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330F52-3272-4A8B-A67D-A941A2E5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0F3FC9-1FD8-4DA1-AA7C-33F9638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7A7FF6-9AF3-4379-8384-EDEDB531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E6E33D-DDD2-45A1-ADA5-CBF49C16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2BDB63-5884-4B06-AAFB-2B648A6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DC5298-88EC-45E5-9181-503A9C6D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8ECE19-1817-4DA5-97A7-DBAB088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B11775-1B5E-4FD6-9127-5E2D59A1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FD6974-D643-466D-B013-178A8646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638BBF-FC76-43C9-ACA9-87B8A858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5159-84D1-49B8-BD4F-91985613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B28430-CADF-424C-917A-F268F2C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7986EB-F442-4FF0-AD4C-304917AF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B768E5C-5F82-4735-87FF-9A2C77B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628C636-7130-4E32-8735-EFCE9CFD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14219B8-CAE8-436B-929F-FFAAF33E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39358E-7E7C-40E2-B23F-0B03EEEE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A7169A-3BD4-49B9-A91B-8D8CF43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886AC6D-2E93-481A-9282-76718D6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9FA8E4-8490-4E96-86E3-BC698545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EFE5FD4-4404-42B7-B765-3EE46E8A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3AD5-9983-4EC6-8E7A-08970B49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CA80B7-2C22-49DC-B857-8FB4ACC4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AEE946-C537-4B04-ACBC-749ED395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D49436-FDAC-49F2-9554-BBB0D4E4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A7417B-C7F1-4797-AE47-4565906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218F6F-795C-433D-8BB3-BB0C6E83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92C4ED-47C0-447E-9C8C-F1B5326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1195FE-F808-46F8-AACC-047BEA4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00CE906-64CC-43CD-AC56-33BDB21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B17380-D252-4DC4-8BD8-43D2153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98B6A0C-6D69-4B9C-93CE-79466A29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DA5B-D2F3-476E-A2EA-3A450212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259F1D-D0D7-478B-BEF7-DB48A9BC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0555FF-F561-4C50-9191-199AF288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A184DA-AA4B-44D6-A82E-51E66229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81DA35-360E-4275-8AAB-5DA588B8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15F89F-91AA-4A63-9594-251774BB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1296151-0BAB-4616-B17F-BA7E9E0B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BB01DE-8203-45B6-850F-A18629A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487ABB-D8A4-4164-8E1F-2CA33949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E669F9-64AA-43AA-82E1-7DABE525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6B3497-3733-485F-8A79-9E70C5AD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9DD-2F31-4DFA-984F-FF85AF78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30A4-F7C5-484A-96F0-22847F2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AF9AEB-8AC7-4C23-9EEF-3D703080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7564A9-0AD4-41C8-8D11-B394A2A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2DE678-5886-4EF9-A2C6-C920248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165C60-EE58-4F11-814B-58B48DB5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114501F-4631-48A8-941B-AF173053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D5D6C34-F567-4D4C-8917-A737D748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59739E3-19E4-421C-A2E5-9B3E61C1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87710F-26C6-4CE2-ADDD-931EA19F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52CAF2-737F-4510-AA14-FAA15155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E696407-E1B9-4CF2-955F-F86FC5DC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77A6-AA6F-40A9-9C5B-B3820366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F8551B1-AB16-4B75-B362-165200E7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32A781-415C-4319-9268-4ABFFBD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8EEEF5-B1AD-4066-A587-D196311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18A297-BC10-4B2D-85D0-68F95A6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4249FA-97E0-4180-B52F-FD1D8B4E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31B0CFC-E1F4-4FB7-9E24-196778D6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C6CBB31-1B02-4EA7-8B28-1A11B32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1A610F-1ADB-4BB9-A386-4FBBF81B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904A66-C5F7-4049-B6E0-3BD93BB7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348221-6453-45E7-AB59-A5594DF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5A99-5781-4246-AE02-3C98E39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1E571A-047E-4AA1-8709-5E8D4736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5677B7-DA16-4906-95FF-ED03A2CD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4EEFFE-33C9-49E2-9646-C35A532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C78DD2E-B547-465F-9E86-AA46F45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7E9369-C6C6-4924-9799-8C4C2260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C145C4-BC81-4117-A894-AAB9A4E6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9EA59FC-B629-4DBB-9934-673A2417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1A0AC0-E99A-470B-A0C8-3D94E7A4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8D1D46-AFC6-4A17-9482-19E9027D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302C89D-A25C-43A3-8AFF-A65D2331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E7C0-611F-4BAA-89B5-85E1DA9E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4C65E5A-3E0C-43DB-B441-B32D4778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610A1B-F7CA-44DE-81D7-BC572B96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413F17-502C-4B6A-B493-D2ECA21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E143E4-005D-4C86-9B35-B22F4DB3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901A8C-763F-410C-9EE4-E17FCFD0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D00AD0A-D8C7-4B36-AEE3-F6A573FF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90449C2-4DBC-4481-8933-9A1D9EE1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A02B77-5408-4DCC-B762-0DE7058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A32667-9D88-4043-B66D-50251C6B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1F0EB0B-8071-4BD9-A6F6-7A7C2894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F725-6F3C-481F-AACD-9369BE5D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F69196-169A-41C2-910B-3D915407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37715D-210F-473B-AB7B-2567D5EB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466DAF-BED5-477B-B0DE-403FDFEC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8A7DD8-FECE-46F8-A921-D0DD685D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7230E8F-A2DA-4762-BCF8-D1C2CFD9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CD2040-FD61-4A41-912D-BD5E2B43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A966D7-C6F1-4779-9BC8-DCE5A395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907CF7-53D6-41DB-9D36-FC1F180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8DCB2E4-B6D2-425D-B6D7-9ABCDDF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5A6C4D-0DCF-4B4E-B4BF-B1ECB745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40BBC-7BFC-4F2E-BA89-96BEAC0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88B159-0818-4B4F-97CD-AEF35D40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D82BB6A-A229-4D6D-B427-09B8BC7B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53180E-D13F-455C-A4F4-C3C4281C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31B5EC-29F4-4041-BA95-0A55C50D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F78E4C-6632-4603-88DA-48A4EE10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D6D9713-4144-4133-A9D2-C367BC69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F14C8C-D82A-492D-9F78-9D2749C3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A35397-D610-46CD-9ABB-079EC321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93174E-6E93-490B-8EC1-312DCF38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B85C683-F1C9-4821-B4B6-9122EB8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D177-05B6-4732-801A-76385D64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394F5E-4C7E-43A6-80B8-815ED7BE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F1517D6-AF4E-4336-9BF0-2D81EB9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31C208-23FD-43C2-902D-6D5492C4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D09F049-88EC-4AA1-B530-8A00EED4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200D90-3800-490C-9116-043A31C5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312A793-3A97-4ABD-8F07-03B50050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A17250-BC67-458E-A70C-BCC0A8C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A18C520-368B-4E8A-9CB8-A9CF2640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21ABCD-0BA1-47DC-8F37-F59ACFF8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9AED05A-7703-43CB-947A-33787BFF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26E7-657E-42C6-875F-3C00417E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7DB612-5497-4BFA-A551-E8CB57E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B6DA18-85B6-46D3-9B1A-69436925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7C8A0C-7388-49C3-8C1A-0B595683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6123BC-2FCD-4B3E-A102-EEDE491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1DB2B00-646C-499D-B11B-EB1E8FAD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61E146-767F-4F2C-8921-64EAE104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CE6355-60E8-4D42-8BC8-0BA5D683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3D2F12-B86B-48F8-A7AE-E5E461F4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3539CBE-CFBA-425E-83F8-08AC713A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1547874-3D56-415B-9696-B1AD96E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8332A-12D3-4B16-8E52-6B766D7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FB9E60-C57F-4C1E-846C-1498817E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D99BA2E-926B-48BC-8703-E4744B4C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F148BF3-5973-4055-81E6-E27F790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826B91D-30FB-4307-AECF-BA1DD3D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586208B-EE23-40AC-B8B9-A4827A1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0678468-4A26-4515-9456-BB304A0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D4BCBDB-F53D-4012-A8EE-F609BC2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34D0C3-005D-4343-AA9F-58107795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01367E5-153D-425E-A65E-B6189A6F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D2F6EC0-21FA-4509-84B3-7C064334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8674-62C7-46AA-915A-CED26E00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9934D5C-7936-4B6C-A8FB-592BEDA9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E6DD97-EE01-47F5-BCCE-1428531F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995F47E-8B06-4D22-B0A6-EA945678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254B211-B3F6-436D-B3F8-6652283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D554F5-7505-4D06-999E-3FCC9805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5645B9-DCD1-40F5-96D1-22127C1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19EDFCC-0B66-40FA-BCA6-2004C1E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2934CB-1031-4E4B-996C-FDDAE899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10AEC61-E704-45F1-A2ED-1330CF8C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69AAEB8-F570-4F2A-9E57-71930BF2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CE9-5F20-4B8B-AA55-3C9D9361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E55A-C22E-4ADE-9CDA-BAE04300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AEA6D1-3315-4581-A0F3-9427220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C380D9-576F-4820-A4B2-AE682A80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EFEAF3A-851C-4E1F-8F23-AD637A09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7B4E319-5734-45C6-BC63-5D8F0ACB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B568EA7-9E36-4493-B5C0-0DC164F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868C5DE-772B-4EC6-A37E-F3D7B495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2C1E8A-C0B2-421A-8F95-7C4F5980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1E5A22-7E43-48EB-BA65-2C88B9D4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75BDC8-6AB4-441C-A8F1-5179B0F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0CCA09-57F6-479A-BE8A-C6D1EED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E4A6C-FB5B-4857-9029-07412B6A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760B19C-1A77-4848-93A1-16ADE5C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F34CB4B-935A-4BAD-9451-9F879F2F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A8B37B0-355E-4890-832F-204730C9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372990-D107-47EA-8E62-0BEB89BA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1A7E5F-0DAC-4B10-A888-06840931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6B81318-A1E0-4545-BC9E-56BB9F30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F983A5-9375-4589-9E16-50C4A55D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3293691-441C-4D82-931C-7981B09B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FA559E-671A-4ED5-8901-030F8DE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46DCED7-69B7-4DB8-8352-3D4DF10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A870-F301-4306-99E8-0F558C39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CDDDC6-152F-42E4-9955-F06C161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08C0ADF-78B8-4466-9EDB-7C435E7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D68FD90-7672-4A4C-8721-0B70F17F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0AD4450-6F37-4F7D-83F1-B1B6B92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0510BB-6EF4-476C-AF67-A9649F17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9857-05B5-4CD6-81AD-23416EE2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3756-9DD1-4205-9D43-60BE3666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7E8C2-CB85-4EB2-84AE-9DFAC86E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526C4-EE87-4E02-A758-92C58375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EFE4-77E4-4686-BC60-0027E85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CCAC-0CC7-4262-8E47-0C2BC43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E0B86-A951-4233-835A-6BD8D20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603-E3EC-474F-801A-CA56727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47A2F-221E-42FF-B5C3-D4F867E4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09B0D-2174-4A82-A2A0-531241D3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0C5C-6F3B-4CDD-8840-E5271149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554E2-03BA-4F92-8BD9-5A193DB6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45E47-8452-4BDF-BB62-75E10FE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7F49-5DFE-4CD9-83A6-D35A744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157D-B9AF-4663-90DC-34D62AF7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79D8D-C5D3-490E-B0A0-BB1D1E38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5FF6E-E50C-46B1-B861-3C71F8AE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962D-9889-49AC-B026-C93EFBB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39C-3E74-4995-9F21-D37FE07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6DD2-EEAD-4441-8D4D-9834AA2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A84D4-1603-42F5-89E0-329F377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DAE61-CCC4-42AB-A56E-658B1DB0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07BA-F584-480B-BFD5-904BD13A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2D2F-3C89-4574-AA56-DC58BF15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BF305-BF84-48B2-84A3-360FAF34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A449-14C6-46D6-9EA8-2467F00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FE65-98DC-4797-9A33-F179688F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FAA9E-5E7C-418B-A32D-A053C087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93055-1061-4147-9475-52EDE4A9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B43-B87C-4C57-B6C1-376F85E8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4FB4F-2E1C-4784-A265-F158B565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1BDDE-0AE4-40B7-AB09-49223B1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CBA4-C7A4-4CB1-87BB-D63C7939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3916D-5AEF-4BCB-9B1F-0EA7AFFE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BF75-FC71-4042-9F99-66CA286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18CEF-3D95-4F55-B915-28192DA6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DFBCF-D6FE-439C-B33F-088621D2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1FF43-336A-4A91-AC7D-2AC5EF0F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426CC-5616-49EA-9307-CAAFF8C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C8704-F2B9-4CE6-A20D-92604AA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07F-7CBC-44F4-B3CC-D3E2188F4C4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ACEA-C2D7-445D-9143-D978116F37C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63E5-AD7B-4173-8BCB-71C66FED5B0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C58-2032-4C0B-9D32-681808A792A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ED0D-3548-4E60-B8C1-E109F972633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11E1-9F76-4C2B-AE42-FE4BCA6FE69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D03E-B171-4912-8707-FCF4F46BDD0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53F-4F3E-4FC0-B116-95ED896A782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C9F7-45CA-4A89-AD8E-4422D6F8F5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FC3A-6CF2-4F92-95E1-2A3C8CA57A7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15BF-B755-4366-B212-6BCEC5F1A3D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299-CA63-4B3F-BC09-91B845D6D90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DC84-F809-4805-95E1-201D2F697CA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BAA6-9262-49D9-83E0-03B6E38F9F7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99E1-44B1-4715-B9C9-0C3D466450E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CC0-F148-4092-BDE6-7AAAB31AED2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CFF5-24BE-49C3-BFF7-80428E7A100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3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3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3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6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6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6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E1BD-4DFA-4BC3-B61A-861D4E64658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A9A9-DA0A-4380-AE52-9A6898CD626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B1C7-1E8B-47BD-B18A-EDB2647297D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404B-CFAA-4513-831D-94B51E14B57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2EF7-35DC-4D2D-AD03-03B27A5CD74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9272-FBA0-4BBC-A43D-1A3494EF094C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E7C-198A-4573-A982-5B54716A371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B52-3C64-41A7-AF18-59FC09AD273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2E1E-4201-4554-8B91-22F84CFFCF0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E75-7605-493A-B54A-1D462A18B98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2EEB-5547-4D99-8C48-E23206169C6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A2D1-BDD9-4828-8B92-B63E941970C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013-2C82-4769-BFB3-7FBE7451DB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358D-0092-44B1-9A2C-859C1BA6A10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2B0-7582-4C69-9009-84A5FA269F5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7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A36D-7C57-4EDA-B3D2-AB86DF79C54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E4E8-A26E-479F-BA48-C76FB458AB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3218-6457-4FF4-B937-831BF0F8C4C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AB11-B4B6-4347-8F42-FE182BB7A6E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FE5-567F-408A-85FF-AA35979BCEA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E877-E575-411D-B69D-C49CB6B84C0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 type="dt" idx="1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F50D-2140-459B-8C4E-54F94C0F71E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634A-DE5A-4CD5-88D1-4848CCEA7F6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 type="dt" idx="13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54C2-CE57-4BD0-AF93-B7F15CD0D1C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 type="dt" idx="13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9359-5BC8-4F67-BB39-D2B76CED2E7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 type="dt" idx="1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0CB9-AC9D-4539-ACD4-B2B4024223B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7A7-67AD-4C74-8CBB-23715C71F17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119D-35B5-4BEF-B7C3-82D4C9DE064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 type="dt" idx="14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06A0-7F4E-4829-B14B-4722248A7DC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5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52E3-ABF3-46E3-AB58-2AEBC5579E3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dt" idx="1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3A6-D41F-4E1C-9C63-3709FD3C617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544A-5AC0-48AF-9BD5-DF32293ABFC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C732-5A89-44EC-8172-6B3C3C014AE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CB3-61C8-41B0-BEAD-0F9A682088A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385-DA5E-4578-A92B-9253F6E8C5C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394920" y="1123920"/>
            <a:ext cx="80089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ПРОВЕРКА КОНТРАГЕНТОВ В РОССИИ СВОИМИ СИЛАМИ</a:t>
            </a:r>
            <a:r>
              <a:rPr b="1" lang="ru-RU" sz="3800" spc="-1" strike="noStrike">
                <a:solidFill>
                  <a:srgbClr val="ff0000"/>
                </a:solidFill>
                <a:latin typeface="Century Gothic"/>
              </a:rPr>
              <a:t>: основные дистанционные возможност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Rectangle 7"/>
          <p:cNvSpPr/>
          <p:nvPr/>
        </p:nvSpPr>
        <p:spPr>
          <a:xfrm>
            <a:off x="468360" y="5734080"/>
            <a:ext cx="35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Rectangle 9"/>
          <p:cNvSpPr/>
          <p:nvPr/>
        </p:nvSpPr>
        <p:spPr>
          <a:xfrm>
            <a:off x="5651640" y="5734080"/>
            <a:ext cx="30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Rectangle 11"/>
          <p:cNvSpPr/>
          <p:nvPr/>
        </p:nvSpPr>
        <p:spPr>
          <a:xfrm>
            <a:off x="20520" y="41544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митрий Жданухин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езидент Ассоциации корпоративного коллектор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Генеральный директор Центра развития коллекторства, к.ю.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актический семинар-вебина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8 февраля 2017, Москва, Посольство Республики Беларусь в Р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Rectangle 45"/>
          <p:cNvSpPr/>
          <p:nvPr/>
        </p:nvSpPr>
        <p:spPr>
          <a:xfrm>
            <a:off x="395280" y="26028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Line 8"/>
          <p:cNvSpPr/>
          <p:nvPr/>
        </p:nvSpPr>
        <p:spPr>
          <a:xfrm>
            <a:off x="2571840" y="64296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Прямоугольник 14"/>
          <p:cNvSpPr/>
          <p:nvPr/>
        </p:nvSpPr>
        <p:spPr>
          <a:xfrm>
            <a:off x="5320440" y="61452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ww.corpcollection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Line 8"/>
          <p:cNvSpPr/>
          <p:nvPr/>
        </p:nvSpPr>
        <p:spPr>
          <a:xfrm>
            <a:off x="395280" y="6453360"/>
            <a:ext cx="490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735120" y="708120"/>
            <a:ext cx="770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пускаемые индикаторы при провер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25520" y="1787040"/>
            <a:ext cx="83232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давнее создание организации и отсутствие следов положительной деятельности в данном направлени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либо отсутствие адекватных оборотов в последние годы перед заключение контрак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гативные отзывы работников и контрагентов в сети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проверяемой организации и другим, связанным с теми же лиц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дублирующих организаций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проверяемой организации и другим, связанным с теми же лиц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ыт противодействия кредитора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 помощью основных упоминаемых сх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ценка перспектив взыска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наличие активов для судебного взыскания и ключевых точек для внесудебног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3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лючевые точки для взыскания долгов организац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5003640" y="1628280"/>
            <a:ext cx="367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редители, участни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вязанные с политикой или другими крупными бизнесами,  иной деятельност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трагент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собенно крупные и зарубежные), а том числе,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потенциаль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отенциальными покупател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параллельных бизнесов/актив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6" name="Picture 4" descr="http://lh4.ggpht.com/davidssb/R18A1OwwNYI/AAAAAAAAARw/8ToifBeRyyY/geoingenieria.jpg"/>
          <p:cNvPicPr/>
          <p:nvPr/>
        </p:nvPicPr>
        <p:blipFill>
          <a:blip r:embed="rId1"/>
          <a:stretch/>
        </p:blipFill>
        <p:spPr>
          <a:xfrm>
            <a:off x="1042920" y="1700280"/>
            <a:ext cx="4051440" cy="2808360"/>
          </a:xfrm>
          <a:prstGeom prst="rect">
            <a:avLst/>
          </a:prstGeom>
          <a:ln w="0">
            <a:noFill/>
          </a:ln>
        </p:spPr>
      </p:pic>
      <p:sp>
        <p:nvSpPr>
          <p:cNvPr id="2417" name="Rectangle 23"/>
          <p:cNvSpPr/>
          <p:nvPr/>
        </p:nvSpPr>
        <p:spPr>
          <a:xfrm>
            <a:off x="898560" y="4724280"/>
            <a:ext cx="7632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динения предпринимателей,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да входит организация-должник или связанные с ней организации, параллельные бизнесы, общественные организации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+ оргкомитеты конференций/выставок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20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тролирующие орган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! важна правильная аргументация и системное воздействие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2051"/>
          <p:cNvSpPr/>
          <p:nvPr/>
        </p:nvSpPr>
        <p:spPr>
          <a:xfrm>
            <a:off x="395280" y="981000"/>
            <a:ext cx="7848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дготовка и проведение взыск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Rectangle 2064"/>
          <p:cNvSpPr/>
          <p:nvPr/>
        </p:nvSpPr>
        <p:spPr>
          <a:xfrm>
            <a:off x="635040" y="1706400"/>
            <a:ext cx="5184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орпоративное коллекторство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 это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акция на неэффективность юридического, коррупционного и переговорного подход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Термин предложен в конце 2006, в 2016 консультации по использованию в ФССП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700360" y="691920"/>
            <a:ext cx="62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Умелым в нападении мы назовем того, чей противник не знает, что ему защищать…»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нь Цзы «Искусство войн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Rectangle 2064"/>
          <p:cNvSpPr/>
          <p:nvPr/>
        </p:nvSpPr>
        <p:spPr>
          <a:xfrm>
            <a:off x="635040" y="4626000"/>
            <a:ext cx="818352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орпоративное коллекторство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 это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550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жде всего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, внесудебное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зыскани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проблемных долгов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рганизац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550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сширенная претензионная переписка по долга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550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законный шантаж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4" name="Picture 2" descr="http://games.compulenta.ru/upload/iblock/811/sun_160.jpg"/>
          <p:cNvPicPr/>
          <p:nvPr/>
        </p:nvPicPr>
        <p:blipFill>
          <a:blip r:embed="rId1"/>
          <a:stretch/>
        </p:blipFill>
        <p:spPr>
          <a:xfrm>
            <a:off x="5867280" y="2205000"/>
            <a:ext cx="2803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5" name="Прямая со стрелкой 20"/>
          <p:cNvCxnSpPr/>
          <p:nvPr/>
        </p:nvCxnSpPr>
        <p:spPr>
          <a:xfrm flipV="1">
            <a:off x="2773440" y="2204280"/>
            <a:ext cx="4115520" cy="1261080"/>
          </a:xfrm>
          <a:prstGeom prst="straightConnector1">
            <a:avLst/>
          </a:prstGeom>
          <a:ln w="88920">
            <a:solidFill>
              <a:srgbClr val="92d050"/>
            </a:solidFill>
            <a:prstDash val="sysDash"/>
            <a:miter/>
            <a:tailEnd len="med" type="arrow" w="med"/>
          </a:ln>
        </p:spPr>
      </p:cxnSp>
      <p:sp>
        <p:nvSpPr>
          <p:cNvPr id="2426" name="Oval 43"/>
          <p:cNvSpPr/>
          <p:nvPr/>
        </p:nvSpPr>
        <p:spPr>
          <a:xfrm>
            <a:off x="7236000" y="1413000"/>
            <a:ext cx="1368360" cy="1295280"/>
          </a:xfrm>
          <a:prstGeom prst="ellipse">
            <a:avLst/>
          </a:prstGeom>
          <a:noFill/>
          <a:ln w="316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Rectangle 32"/>
          <p:cNvSpPr/>
          <p:nvPr/>
        </p:nvSpPr>
        <p:spPr>
          <a:xfrm>
            <a:off x="250920" y="692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типичного кризисного взыск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утационная угроза за «брошенную» часть холдин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Line 36"/>
          <p:cNvSpPr/>
          <p:nvPr/>
        </p:nvSpPr>
        <p:spPr>
          <a:xfrm flipH="1">
            <a:off x="4858920" y="4076640"/>
            <a:ext cx="1800360" cy="1297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Line 38"/>
          <p:cNvSpPr/>
          <p:nvPr/>
        </p:nvSpPr>
        <p:spPr>
          <a:xfrm flipH="1">
            <a:off x="4716360" y="429264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Oval 43"/>
          <p:cNvSpPr/>
          <p:nvPr/>
        </p:nvSpPr>
        <p:spPr>
          <a:xfrm>
            <a:off x="6659640" y="3141720"/>
            <a:ext cx="1368360" cy="12952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дол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Oval 45"/>
          <p:cNvSpPr/>
          <p:nvPr/>
        </p:nvSpPr>
        <p:spPr>
          <a:xfrm>
            <a:off x="395280" y="1916280"/>
            <a:ext cx="1368360" cy="12952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ди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2" name="Группа 15"/>
          <p:cNvGrpSpPr/>
          <p:nvPr/>
        </p:nvGrpSpPr>
        <p:grpSpPr>
          <a:xfrm>
            <a:off x="4140360" y="4869000"/>
            <a:ext cx="576000" cy="1368360"/>
            <a:chOff x="4140360" y="4869000"/>
            <a:chExt cx="576000" cy="1368360"/>
          </a:xfrm>
        </p:grpSpPr>
        <p:sp>
          <p:nvSpPr>
            <p:cNvPr id="2433" name="AutoShape 47"/>
            <p:cNvSpPr/>
            <p:nvPr/>
          </p:nvSpPr>
          <p:spPr>
            <a:xfrm>
              <a:off x="4140360" y="5445360"/>
              <a:ext cx="576000" cy="792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Учредител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4" name="Oval 48"/>
            <p:cNvSpPr/>
            <p:nvPr/>
          </p:nvSpPr>
          <p:spPr>
            <a:xfrm>
              <a:off x="4140360" y="486900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5" name="Line 49"/>
          <p:cNvSpPr/>
          <p:nvPr/>
        </p:nvSpPr>
        <p:spPr>
          <a:xfrm>
            <a:off x="4608360" y="5084640"/>
            <a:ext cx="61128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6" name="Oval 43"/>
          <p:cNvSpPr/>
          <p:nvPr/>
        </p:nvSpPr>
        <p:spPr>
          <a:xfrm>
            <a:off x="4211640" y="2852640"/>
            <a:ext cx="158436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Oval 43"/>
          <p:cNvSpPr/>
          <p:nvPr/>
        </p:nvSpPr>
        <p:spPr>
          <a:xfrm>
            <a:off x="1908000" y="2320920"/>
            <a:ext cx="4680000" cy="4537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лд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Oval 43"/>
          <p:cNvSpPr/>
          <p:nvPr/>
        </p:nvSpPr>
        <p:spPr>
          <a:xfrm>
            <a:off x="1979640" y="3933720"/>
            <a:ext cx="1512720" cy="14385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9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Oval 43"/>
          <p:cNvSpPr/>
          <p:nvPr/>
        </p:nvSpPr>
        <p:spPr>
          <a:xfrm>
            <a:off x="7093080" y="1628640"/>
            <a:ext cx="1368360" cy="1295640"/>
          </a:xfrm>
          <a:prstGeom prst="ellipse">
            <a:avLst/>
          </a:prstGeom>
          <a:noFill/>
          <a:ln w="316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отенциаль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окупатель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онтрагенты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бъедин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Line 38"/>
          <p:cNvSpPr/>
          <p:nvPr/>
        </p:nvSpPr>
        <p:spPr>
          <a:xfrm>
            <a:off x="3419640" y="501336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Line 38"/>
          <p:cNvSpPr/>
          <p:nvPr/>
        </p:nvSpPr>
        <p:spPr>
          <a:xfrm flipH="1">
            <a:off x="6227640" y="2565360"/>
            <a:ext cx="936720" cy="7923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44" name="Прямая со стрелкой 21"/>
          <p:cNvCxnSpPr/>
          <p:nvPr/>
        </p:nvCxnSpPr>
        <p:spPr>
          <a:xfrm>
            <a:off x="1787040" y="2720520"/>
            <a:ext cx="2166120" cy="1716840"/>
          </a:xfrm>
          <a:prstGeom prst="straightConnector1">
            <a:avLst/>
          </a:prstGeom>
          <a:ln w="889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519120" y="10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зыскание особо сложных долгов через информационное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) сопровождение от ФССП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Rectangle 17"/>
          <p:cNvSpPr/>
          <p:nvPr/>
        </p:nvSpPr>
        <p:spPr>
          <a:xfrm>
            <a:off x="4371840" y="2205000"/>
            <a:ext cx="437688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32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Уведомление от пресс-службы УФССП о возможном интересе С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дресат не только сам должник, но и стоящие за ним лиц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lnSpc>
                <a:spcPct val="90000"/>
              </a:lnSpc>
              <a:spcBef>
                <a:spcPts val="125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вместная со взыскателем работа со СМ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взыскатель может проекты текстов направлять оппонентам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Rectangle 1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Line 1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9" name="Picture 2" descr="http://radio.tomsk.ru/files/7000_1.jpg"/>
          <p:cNvPicPr/>
          <p:nvPr/>
        </p:nvPicPr>
        <p:blipFill>
          <a:blip r:embed="rId1"/>
          <a:stretch/>
        </p:blipFill>
        <p:spPr>
          <a:xfrm>
            <a:off x="360360" y="2708280"/>
            <a:ext cx="3645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1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2" name="Rectangle 2051"/>
          <p:cNvSpPr/>
          <p:nvPr/>
        </p:nvSpPr>
        <p:spPr>
          <a:xfrm>
            <a:off x="324000" y="981000"/>
            <a:ext cx="3960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которые новые возможности взыскани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ст. 173.1 УК РФ «Незаконное создание организации» при «сливе» на «номинала»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3" name="Rectangle 2064"/>
          <p:cNvSpPr/>
          <p:nvPr/>
        </p:nvSpPr>
        <p:spPr>
          <a:xfrm>
            <a:off x="324000" y="3860640"/>
            <a:ext cx="88200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оиск и/или имитация перспективного для оппонентов контрагента + угроза его «ухода»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нкротство физ лица – поручителя и т.д.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контекстная реклама с «продажей» долг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201"/>
              </a:spcBef>
              <a:buClr>
                <a:srgbClr val="ee201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ажно понимать, что демонстрация важнее реализации угроз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4" name="Picture 12" descr="http://img-fotki.yandex.ru/get/5605/angelina-veresk.3b/0_61ff4_883830c_L"/>
          <p:cNvPicPr/>
          <p:nvPr/>
        </p:nvPicPr>
        <p:blipFill>
          <a:blip r:embed="rId1"/>
          <a:stretch/>
        </p:blipFill>
        <p:spPr>
          <a:xfrm>
            <a:off x="4235400" y="1197000"/>
            <a:ext cx="4908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55" name="Прямая со стрелкой 20"/>
          <p:cNvCxnSpPr>
            <a:endCxn id="2456" idx="3"/>
          </p:cNvCxnSpPr>
          <p:nvPr/>
        </p:nvCxnSpPr>
        <p:spPr>
          <a:xfrm flipV="1">
            <a:off x="3778200" y="2953440"/>
            <a:ext cx="699120" cy="585000"/>
          </a:xfrm>
          <a:prstGeom prst="straightConnector1">
            <a:avLst/>
          </a:prstGeom>
          <a:ln w="88920">
            <a:solidFill>
              <a:srgbClr val="9bbb59"/>
            </a:solidFill>
            <a:prstDash val="sysDash"/>
            <a:miter/>
            <a:tailEnd len="med" type="arrow" w="med"/>
          </a:ln>
        </p:spPr>
      </p:cxnSp>
      <p:sp>
        <p:nvSpPr>
          <p:cNvPr id="2457" name="Rectangle 32"/>
          <p:cNvSpPr/>
          <p:nvPr/>
        </p:nvSpPr>
        <p:spPr>
          <a:xfrm>
            <a:off x="39528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лючевая точка – перспективный контраге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Oval 43"/>
          <p:cNvSpPr/>
          <p:nvPr/>
        </p:nvSpPr>
        <p:spPr>
          <a:xfrm>
            <a:off x="7256520" y="4178160"/>
            <a:ext cx="1368360" cy="12956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ржател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кт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Oval 45"/>
          <p:cNvSpPr/>
          <p:nvPr/>
        </p:nvSpPr>
        <p:spPr>
          <a:xfrm>
            <a:off x="395280" y="1916280"/>
            <a:ext cx="1368360" cy="12952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ди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0" name="Oval 43"/>
          <p:cNvSpPr/>
          <p:nvPr/>
        </p:nvSpPr>
        <p:spPr>
          <a:xfrm>
            <a:off x="2046240" y="4935600"/>
            <a:ext cx="151308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л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1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6" name="Oval 43"/>
          <p:cNvSpPr/>
          <p:nvPr/>
        </p:nvSpPr>
        <p:spPr>
          <a:xfrm>
            <a:off x="4254480" y="1727280"/>
            <a:ext cx="151308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тенци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купатель акт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3" name="Группа 15"/>
          <p:cNvGrpSpPr/>
          <p:nvPr/>
        </p:nvGrpSpPr>
        <p:grpSpPr>
          <a:xfrm>
            <a:off x="5778360" y="3494160"/>
            <a:ext cx="576360" cy="1368360"/>
            <a:chOff x="5778360" y="3494160"/>
            <a:chExt cx="576360" cy="1368360"/>
          </a:xfrm>
        </p:grpSpPr>
        <p:sp>
          <p:nvSpPr>
            <p:cNvPr id="2464" name="Oval 48"/>
            <p:cNvSpPr/>
            <p:nvPr/>
          </p:nvSpPr>
          <p:spPr>
            <a:xfrm>
              <a:off x="5778360" y="34941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5" name="AutoShape 47"/>
            <p:cNvSpPr/>
            <p:nvPr/>
          </p:nvSpPr>
          <p:spPr>
            <a:xfrm>
              <a:off x="5778360" y="4070520"/>
              <a:ext cx="576360" cy="792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Бенефициа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6" name="Line 49"/>
          <p:cNvSpPr/>
          <p:nvPr/>
        </p:nvSpPr>
        <p:spPr>
          <a:xfrm>
            <a:off x="6753240" y="2276640"/>
            <a:ext cx="611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Line 38"/>
          <p:cNvSpPr/>
          <p:nvPr/>
        </p:nvSpPr>
        <p:spPr>
          <a:xfrm>
            <a:off x="6337440" y="4533840"/>
            <a:ext cx="90144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Line 38"/>
          <p:cNvSpPr/>
          <p:nvPr/>
        </p:nvSpPr>
        <p:spPr>
          <a:xfrm flipV="1">
            <a:off x="3635280" y="4533840"/>
            <a:ext cx="2143080" cy="1090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69" name="Прямая со стрелкой 26"/>
          <p:cNvCxnSpPr/>
          <p:nvPr/>
        </p:nvCxnSpPr>
        <p:spPr>
          <a:xfrm>
            <a:off x="1674360" y="2890440"/>
            <a:ext cx="3545640" cy="1384920"/>
          </a:xfrm>
          <a:prstGeom prst="straightConnector1">
            <a:avLst/>
          </a:prstGeom>
          <a:ln w="88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0" name="Oval 43"/>
          <p:cNvSpPr/>
          <p:nvPr/>
        </p:nvSpPr>
        <p:spPr>
          <a:xfrm>
            <a:off x="7020000" y="1652760"/>
            <a:ext cx="151272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рубеж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вестор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71" name="Прямая со стрелкой 27"/>
          <p:cNvCxnSpPr>
            <a:endCxn id="2470" idx="3"/>
          </p:cNvCxnSpPr>
          <p:nvPr/>
        </p:nvCxnSpPr>
        <p:spPr>
          <a:xfrm flipV="1">
            <a:off x="3812760" y="2878920"/>
            <a:ext cx="3428280" cy="723240"/>
          </a:xfrm>
          <a:prstGeom prst="straightConnector1">
            <a:avLst/>
          </a:prstGeom>
          <a:ln w="88920">
            <a:solidFill>
              <a:srgbClr val="9bbb59"/>
            </a:solidFill>
            <a:prstDash val="sysDash"/>
            <a:miter/>
            <a:tailEnd len="med" type="arrow" w="med"/>
          </a:ln>
        </p:spPr>
      </p:cxnSp>
      <p:sp>
        <p:nvSpPr>
          <p:cNvPr id="2472" name="Oval 43"/>
          <p:cNvSpPr/>
          <p:nvPr/>
        </p:nvSpPr>
        <p:spPr>
          <a:xfrm>
            <a:off x="3778200" y="3263760"/>
            <a:ext cx="5153040" cy="36561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лд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лгоритм планирования взыск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Системное описание ситу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вязанной с долгом, т.е. исследование связей оппонентов для нахождения «ключевых точек»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Моделирование возможных действий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понентов и связанных с ним лиц (могут ли они вообще совершить необходимые действия либо необходимо воздействовать на другие элементы системы, как будут сопротивлятьс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Rectangle 25"/>
          <p:cNvSpPr/>
          <p:nvPr/>
        </p:nvSpPr>
        <p:spPr>
          <a:xfrm>
            <a:off x="684360" y="5084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Составление Программы взыска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письменного документа с определением участвующих отделов (юристы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Б и т.д.), необходимости аутсорсинга и т.д. Каждый шаг может описываться-демонстрироваться-реализовыва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6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7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8" name="Picture 4" descr="http://content.izvestia.ru/152270.jpg"/>
          <p:cNvPicPr/>
          <p:nvPr/>
        </p:nvPicPr>
        <p:blipFill>
          <a:blip r:embed="rId1"/>
          <a:stretch/>
        </p:blipFill>
        <p:spPr>
          <a:xfrm>
            <a:off x="5292720" y="1916280"/>
            <a:ext cx="3554280" cy="266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ценка приоритетности ключевых точе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758520" y="1534680"/>
            <a:ext cx="4065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А. Проверка наличия особо благоприятных условий для взыск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дажа бизнеса/ак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ючевая точка - предполагаемый покупатель, его вышестоящие структуры/кредиторы и т.д.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жидаемое /анонсирование участие лиц, связанных с должником в конференция/выставк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ючевая точка - организаторы этих мероприят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рьез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ром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ючевая точка – контролирующие орг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Rectangle 23"/>
          <p:cNvSpPr/>
          <p:nvPr/>
        </p:nvSpPr>
        <p:spPr>
          <a:xfrm>
            <a:off x="3851280" y="4633920"/>
            <a:ext cx="5113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Б. Выбор среди обычных ключевых точе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Участники/владельцы организ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Крупные уважаемые объединения/ крупные контрагенты с оборот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Не особо известные контраг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Контролирующие орга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4" name="Picture 2" descr="http://riadagestan.ru.images.1c-bitrix-cdn.ru/upload/iblock/2c9/2c9df749517c7dec4ffcf02c7a950af2.jpg?138009060020985"/>
          <p:cNvPicPr/>
          <p:nvPr/>
        </p:nvPicPr>
        <p:blipFill>
          <a:blip r:embed="rId1"/>
          <a:stretch/>
        </p:blipFill>
        <p:spPr>
          <a:xfrm>
            <a:off x="5002200" y="1535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Rectangle 2051"/>
          <p:cNvSpPr/>
          <p:nvPr/>
        </p:nvSpPr>
        <p:spPr>
          <a:xfrm>
            <a:off x="395280" y="981000"/>
            <a:ext cx="7848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верка контрагенто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новные возмож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31640" y="53028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обенности эффективны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реестров долговых ситуац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4140000" y="184428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Указание участников и руководителей организации-должника на момент возникновения долг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данным ЕГРЮЛ и/или СМ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Rectangle 10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8" name="Line 11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9" name="Рисунок 1" descr="C:\Users\111\Desktop\logo-mdeloros.jpg"/>
          <p:cNvPicPr/>
          <p:nvPr/>
        </p:nvPicPr>
        <p:blipFill>
          <a:blip r:embed="rId1"/>
          <a:stretch/>
        </p:blipFill>
        <p:spPr>
          <a:xfrm>
            <a:off x="250920" y="1989000"/>
            <a:ext cx="3878280" cy="1152720"/>
          </a:xfrm>
          <a:prstGeom prst="rect">
            <a:avLst/>
          </a:prstGeom>
          <a:ln w="0">
            <a:noFill/>
          </a:ln>
        </p:spPr>
      </p:pic>
      <p:sp>
        <p:nvSpPr>
          <p:cNvPr id="2490" name="Прямоугольник 7"/>
          <p:cNvSpPr/>
          <p:nvPr/>
        </p:nvSpPr>
        <p:spPr>
          <a:xfrm>
            <a:off x="250920" y="3357720"/>
            <a:ext cx="8497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казание других организаций, где лица из п. 1 имеют долю или занимают руководящий пост сейчас или в прошл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данным ЕГРЮЛ и/или СМИ);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ридическая 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роработанность проект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ложение о реестре, правовая позиция по проблемным вопросам, план продвижения, положение об анти-премии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штабируемость и возможность передачи опыт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режде всего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для создания отраслевых реестр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оторые могут быть достаточно полн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Актуальность частного рейтинга отделов приставов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468000" y="1412640"/>
            <a:ext cx="4103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Учет не только отрицательных, но и положительных момен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точники данных для рейтинга: статистика по отделам, информация взыскателей, онлайн-голосован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оздействуют на приставов «иллюстративные» примеры в пресс-релизах по рейтинг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Rectangle 10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Line 11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Прямоугольник 7"/>
          <p:cNvSpPr/>
          <p:nvPr/>
        </p:nvSpPr>
        <p:spPr>
          <a:xfrm>
            <a:off x="250920" y="4869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сновные моменты для использования рейтинг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* шаблон уведомления 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опровождении исполнительного производ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* периодическое (раз в 2-3 мес.) направление проектов пресс-релизов в УФССП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* публикация состояния рейтинга с полож./негатив. пример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6" name="Picture 9" descr="http://www.bezformata.ru/content/Images/000/003/683/image3683704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960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Rectangle 1030"/>
          <p:cNvSpPr/>
          <p:nvPr/>
        </p:nvSpPr>
        <p:spPr>
          <a:xfrm>
            <a:off x="468360" y="2637000"/>
            <a:ext cx="831672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митрий Жданухин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енеральный дирек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нтра развития коллекторств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зидент Ассоциации корпоративного коллекторства, к.ю.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irector@corpcollection.r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7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95 40 975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8" name="Rectangle 1035"/>
          <p:cNvSpPr/>
          <p:nvPr/>
        </p:nvSpPr>
        <p:spPr>
          <a:xfrm>
            <a:off x="428760" y="1268280"/>
            <a:ext cx="820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Желаю, чтобы рассказанное не пригодилось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Rectangle 1039"/>
          <p:cNvSpPr/>
          <p:nvPr/>
        </p:nvSpPr>
        <p:spPr>
          <a:xfrm>
            <a:off x="395280" y="26028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Line 1040"/>
          <p:cNvSpPr/>
          <p:nvPr/>
        </p:nvSpPr>
        <p:spPr>
          <a:xfrm>
            <a:off x="2916360" y="692280"/>
            <a:ext cx="57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Rectangle 1041"/>
          <p:cNvSpPr/>
          <p:nvPr/>
        </p:nvSpPr>
        <p:spPr>
          <a:xfrm>
            <a:off x="5145120" y="593100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ww.corpcollection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2" name="Line 8"/>
          <p:cNvSpPr/>
          <p:nvPr/>
        </p:nvSpPr>
        <p:spPr>
          <a:xfrm>
            <a:off x="611280" y="6237360"/>
            <a:ext cx="45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дход к работе с дол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1640" y="1699920"/>
            <a:ext cx="4033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63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поди, дай мне силы, чтобы изменить то, что я могу изменить,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3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ерпение, чтобы принять то, что я изменить не мог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3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 мудрость, чтобы отличить одно от другого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Rectangle 25"/>
          <p:cNvSpPr/>
          <p:nvPr/>
        </p:nvSpPr>
        <p:spPr>
          <a:xfrm>
            <a:off x="652320" y="4292640"/>
            <a:ext cx="8096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сновные практически ситуации требующие провер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ланированное мошенничеств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менение надежности контрагента (цепочка неплатежей, изменение структуры холдинга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авильная проверка дает основы для переговоров и быстрого взыск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5" name="Picture 10" descr="http://s1.postimage.org/usbhy3j4/4573_s.jpg"/>
          <p:cNvPicPr/>
          <p:nvPr/>
        </p:nvPicPr>
        <p:blipFill>
          <a:blip r:embed="rId1"/>
          <a:stretch/>
        </p:blipFill>
        <p:spPr>
          <a:xfrm>
            <a:off x="684360" y="1700280"/>
            <a:ext cx="3736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2051"/>
          <p:cNvSpPr/>
          <p:nvPr/>
        </p:nvSpPr>
        <p:spPr>
          <a:xfrm>
            <a:off x="4643280" y="1268280"/>
            <a:ext cx="3888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Создание или «слив» фирмы на подставных лиц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ключая реорганизацию холдингов и ведение бизнеса сразу через номина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«Управляемое банкротство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предварительной переброской активов / денежных пото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Rectangle 2064"/>
          <p:cNvSpPr/>
          <p:nvPr/>
        </p:nvSpPr>
        <p:spPr>
          <a:xfrm>
            <a:off x="324000" y="4508640"/>
            <a:ext cx="88200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Сильное юридическое / административное / коррупционное сопротивление взыск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статочно часто встречается со стороны крупных бизнес структу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Мошенничество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в том числе, подготовленное – с частными платежами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0544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новные варианты долговых пробл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1" name="Picture 8" descr="http://ukranews.com/uploads/news/2011/02/09/17/2f8e056552e8f17761d3c4b1e3029953cc382392.jpg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2051"/>
          <p:cNvSpPr/>
          <p:nvPr/>
        </p:nvSpPr>
        <p:spPr>
          <a:xfrm>
            <a:off x="395280" y="765000"/>
            <a:ext cx="5400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обенности долговых проблем в Росс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 ещ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шевы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оступны способы укло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т погашения задолжен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уются юридические механизмы (субсидиарная ответственность и т.д.), но они час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ороги и не операти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3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4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5" name="Rectangle 2064"/>
          <p:cNvSpPr/>
          <p:nvPr/>
        </p:nvSpPr>
        <p:spPr>
          <a:xfrm>
            <a:off x="395280" y="4844880"/>
            <a:ext cx="84978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многие новые схемы первыми начинают использовать недобросовестные должн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без отсутствующего повышения эффективности уголовного преследования другие изменения часто применяются избир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6" name="Picture 2" descr="http://www.taday.ru/data/679/598/1234/3047.jpg"/>
          <p:cNvPicPr/>
          <p:nvPr/>
        </p:nvPicPr>
        <p:blipFill>
          <a:blip r:embed="rId1"/>
          <a:stretch/>
        </p:blipFill>
        <p:spPr>
          <a:xfrm>
            <a:off x="5796000" y="1052640"/>
            <a:ext cx="2752560" cy="3760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054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ценка и мониторинг проблемности долг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9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0" name="Rectangle 23"/>
          <p:cNvSpPr/>
          <p:nvPr/>
        </p:nvSpPr>
        <p:spPr>
          <a:xfrm>
            <a:off x="900000" y="1700280"/>
            <a:ext cx="4103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лиз опыта банкротства и использования «номиналов» в работе и «сливе» организац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следование систем - бизнес-партнеров учредителей проверяемых организац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ценка холдинговой структуры на предмет ее использования для защиты от взыск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1" name="Rectangle 23"/>
          <p:cNvSpPr/>
          <p:nvPr/>
        </p:nvSpPr>
        <p:spPr>
          <a:xfrm>
            <a:off x="1042920" y="5373720"/>
            <a:ext cx="763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Анализ ЕГРЮЛ, ЕФРСБ, Картотеки арбитражных дел и Банка данных исполнительных производств дополняется исследованием информации в открытых источник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2" name="Picture 2" descr="http://forums.drom.ru/attachment.php?attachmentid=1713438&amp;d=1321686055"/>
          <p:cNvPicPr/>
          <p:nvPr/>
        </p:nvPicPr>
        <p:blipFill>
          <a:blip r:embed="rId1"/>
          <a:stretch/>
        </p:blipFill>
        <p:spPr>
          <a:xfrm>
            <a:off x="5292720" y="1700280"/>
            <a:ext cx="309564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5440" cy="67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сновные возможности для сбора информ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369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иск в интернет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сайт должника и Ко, общий поиск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нформационные ресурсы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ЕГРЮЛ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rbitr.ru, LexisNexi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 др. с помощью СПАРК,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Контур-Фоку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Моделирование и опрос экспертов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кто мог бы быть контрагентом 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Бывшие и действующие сотрудники (Название + резюме в </a:t>
            </a: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hh.ru, superjob.ru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овокация передачи компромат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объявления, пресс-релизы 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ные способы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эл. почта, легендированный опрос 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5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6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7" name="Picture 2" descr="http://s2.hubimg.com/u/5325413_177.jpg"/>
          <p:cNvPicPr/>
          <p:nvPr/>
        </p:nvPicPr>
        <p:blipFill>
          <a:blip r:embed="rId1"/>
          <a:stretch/>
        </p:blipFill>
        <p:spPr>
          <a:xfrm>
            <a:off x="5435640" y="1989000"/>
            <a:ext cx="3095640" cy="3097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719280" y="836640"/>
            <a:ext cx="770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сновные задачи для взыскания решаемые с помощью информационных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1640" y="2060280"/>
            <a:ext cx="37306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иск индикаторов долговых проб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хождение параллельного бизнес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организаций, через которые продолжаетс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Rectangle 25"/>
          <p:cNvSpPr/>
          <p:nvPr/>
        </p:nvSpPr>
        <p:spPr>
          <a:xfrm>
            <a:off x="900000" y="4292640"/>
            <a:ext cx="784872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монстрация связ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жду различными организациями по учредителям, адресу, телефону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я по бизнесу интересующих компаний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госконтракты, товарные знаки, проверки, иногда балансы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1" name="Picture 2" descr="http://www.bestural.com/uploads/gadgets/image/%D0%BA%D0%BE%D0%BD%D1%82%D1%83%D1%80-%D1%84%D0%BE%D0%BA%D1%83%D1%81.jpg"/>
          <p:cNvPicPr/>
          <p:nvPr/>
        </p:nvPicPr>
        <p:blipFill>
          <a:blip r:embed="rId1"/>
          <a:stretch/>
        </p:blipFill>
        <p:spPr>
          <a:xfrm>
            <a:off x="1258920" y="1844640"/>
            <a:ext cx="3097080" cy="2333520"/>
          </a:xfrm>
          <a:prstGeom prst="rect">
            <a:avLst/>
          </a:prstGeom>
          <a:ln w="0">
            <a:noFill/>
          </a:ln>
        </p:spPr>
      </p:pic>
      <p:sp>
        <p:nvSpPr>
          <p:cNvPr id="2402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3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755280" y="728280"/>
            <a:ext cx="77058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ный алгоритм провер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539280" y="1630080"/>
            <a:ext cx="8137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иск в сети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начала по новостям, затем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gma.ru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 помощью сочетаний «отзывы», «проблемы», «долги», поиск по телефонам, эл почте, адресам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лиз представленных документов и информации в система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ПАРК, Контур-Фокус, или хотя бы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grul.nalog.r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следование информации по работника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есть ли резюме бывших и действующих работников, негативные отзывы, при необходимости контакт с работник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лиз информации по судам и ФССП РФ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 кем и как судились в рамках этой и связанных компаний, какие текущие процессы и их возможные последств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иск в сети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начала по новостям, затем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gma.ru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 помощью сочетаний «отзывы», «проблемы», «долги»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9:54:10Z</dcterms:created>
  <dc:creator>User</dc:creator>
  <dc:description/>
  <dc:language>en-US</dc:language>
  <cp:lastModifiedBy>Dragon</cp:lastModifiedBy>
  <dcterms:modified xsi:type="dcterms:W3CDTF">2017-03-13T07:28:20Z</dcterms:modified>
  <cp:revision>224</cp:revision>
  <dc:subject/>
  <dc:title>Слайд 1</dc:title>
</cp:coreProperties>
</file>